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28F-C451-4089-8F45-9CEA1A27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C7B-2ED7-4A7A-AB9E-BF71E506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3F1-C6D6-4B33-B478-E0BDDC09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18F-7F99-4E6A-9256-383726A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B3F-0552-4572-A69B-0BE6195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0F0-C5DE-4A1E-8FC6-B36DE2D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875-DB06-4CCF-97D0-78DAA55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FA8-33AA-4FBA-93F6-E01374F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4F1-B670-445C-B2D9-8A57C6C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52F-B348-4C1E-9B30-74C5641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63A-9394-4BE5-A28C-EFFFC52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899-F221-4793-8488-4D7ECBB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B74F-482F-4325-8F91-6835942AD6D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2"/>
          <p:cNvSpPr/>
          <p:nvPr/>
        </p:nvSpPr>
        <p:spPr>
          <a:xfrm>
            <a:off x="0" y="396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3"/>
          <p:cNvSpPr/>
          <p:nvPr/>
        </p:nvSpPr>
        <p:spPr>
          <a:xfrm>
            <a:off x="150840" y="457200"/>
            <a:ext cx="960264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3263760"/>
          <a:ext cx="5386680" cy="3267360"/>
        </p:xfrm>
        <a:graphic>
          <a:graphicData uri="http://schemas.openxmlformats.org/drawingml/2006/table">
            <a:tbl>
              <a:tblPr/>
              <a:tblGrid>
                <a:gridCol w="400320"/>
                <a:gridCol w="1223640"/>
                <a:gridCol w="1474920"/>
                <a:gridCol w="228780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83"/>
          <p:cNvSpPr/>
          <p:nvPr/>
        </p:nvSpPr>
        <p:spPr>
          <a:xfrm>
            <a:off x="380880" y="2857680"/>
            <a:ext cx="16797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935680" y="3244680"/>
          <a:ext cx="3695760" cy="2529000"/>
        </p:xfrm>
        <a:graphic>
          <a:graphicData uri="http://schemas.openxmlformats.org/drawingml/2006/table">
            <a:tbl>
              <a:tblPr/>
              <a:tblGrid>
                <a:gridCol w="558720"/>
                <a:gridCol w="2502000"/>
                <a:gridCol w="635040"/>
              </a:tblGrid>
              <a:tr h="292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が積極的に発言す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で時間を守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4"/>
          <p:cNvSpPr/>
          <p:nvPr/>
        </p:nvSpPr>
        <p:spPr>
          <a:xfrm>
            <a:off x="5810400" y="5842080"/>
            <a:ext cx="40384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5"/>
          <p:cNvSpPr/>
          <p:nvPr/>
        </p:nvSpPr>
        <p:spPr>
          <a:xfrm>
            <a:off x="5951520" y="2882880"/>
            <a:ext cx="28954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38040" y="488880"/>
            <a:ext cx="2446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30040" y="1022400"/>
            <a:ext cx="3391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Ａ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625760"/>
          <a:ext cx="2813040" cy="99036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304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3"/>
          <p:cNvSpPr/>
          <p:nvPr/>
        </p:nvSpPr>
        <p:spPr>
          <a:xfrm>
            <a:off x="3349800" y="765000"/>
            <a:ext cx="347472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159080" y="635040"/>
            <a:ext cx="1571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グループ化 27"/>
          <p:cNvGrpSpPr/>
          <p:nvPr/>
        </p:nvGrpSpPr>
        <p:grpSpPr>
          <a:xfrm>
            <a:off x="6946920" y="1054080"/>
            <a:ext cx="2614680" cy="1611360"/>
            <a:chOff x="6946920" y="1054080"/>
            <a:chExt cx="2614680" cy="1611360"/>
          </a:xfrm>
        </p:grpSpPr>
        <p:sp>
          <p:nvSpPr>
            <p:cNvPr id="55" name="Rectangle 15"/>
            <p:cNvSpPr/>
            <p:nvPr/>
          </p:nvSpPr>
          <p:spPr>
            <a:xfrm>
              <a:off x="6946920" y="2117880"/>
              <a:ext cx="25984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6946920" y="184464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963120" y="1341360"/>
              <a:ext cx="2598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6946920" y="105408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946920" y="105408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946920" y="132696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946920" y="184464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6946920" y="211788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6946920" y="266544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694692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954540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4"/>
          <p:cNvSpPr/>
          <p:nvPr/>
        </p:nvSpPr>
        <p:spPr>
          <a:xfrm>
            <a:off x="7343640" y="62388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393840"/>
            <a:ext cx="8420040" cy="65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ＱＣサークル活動の目的と自職場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4520" y="992160"/>
          <a:ext cx="9145440" cy="5676840"/>
        </p:xfrm>
        <a:graphic>
          <a:graphicData uri="http://schemas.openxmlformats.org/drawingml/2006/table">
            <a:tbl>
              <a:tblPr/>
              <a:tblGrid>
                <a:gridCol w="2611440"/>
                <a:gridCol w="2178000"/>
                <a:gridCol w="2176560"/>
                <a:gridCol w="2179440"/>
              </a:tblGrid>
              <a:tr h="79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的を達成し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職場のあるべき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実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ギャップ（問題・課題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１．個人の能力を向上させ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　（人材を育成し、技能を伝承する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２．職場のチームワークを良くす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（ｺﾐｭﾆｹｰｼｮﾝのとれる職場作り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12"/>
          <p:cNvSpPr/>
          <p:nvPr/>
        </p:nvSpPr>
        <p:spPr>
          <a:xfrm>
            <a:off x="0" y="5724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3"/>
          <p:cNvSpPr/>
          <p:nvPr/>
        </p:nvSpPr>
        <p:spPr>
          <a:xfrm>
            <a:off x="7473960" y="2905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920" y="765000"/>
            <a:ext cx="80503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としての「あるべき姿」の意思統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118120" y="1549440"/>
            <a:ext cx="42926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２．サークルメンバーが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明朝"/>
              </a:rPr>
              <a:t>　　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62520" y="4264200"/>
            <a:ext cx="1898640" cy="533160"/>
          </a:xfrm>
          <a:prstGeom prst="downArrow">
            <a:avLst>
              <a:gd name="adj1" fmla="val 58815"/>
              <a:gd name="adj2" fmla="val 461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825480" y="249552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811080" y="277488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825480" y="30672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825480" y="337176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70040" y="36766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784080" y="3981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5462640" y="25052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5448240" y="2784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5462640" y="30765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462640" y="33814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462640" y="36860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5462640" y="39783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18"/>
          <p:cNvGrpSpPr/>
          <p:nvPr/>
        </p:nvGrpSpPr>
        <p:grpSpPr>
          <a:xfrm>
            <a:off x="743040" y="4952880"/>
            <a:ext cx="8502120" cy="1692360"/>
            <a:chOff x="743040" y="4952880"/>
            <a:chExt cx="8502120" cy="1692360"/>
          </a:xfrm>
        </p:grpSpPr>
        <p:sp>
          <p:nvSpPr>
            <p:cNvPr id="88" name="Rectangle 19"/>
            <p:cNvSpPr/>
            <p:nvPr/>
          </p:nvSpPr>
          <p:spPr>
            <a:xfrm>
              <a:off x="743040" y="4952880"/>
              <a:ext cx="8502120" cy="169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３．自分達が思い描くＱＣサークルリーダーの『あるべき姿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　 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①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②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③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1183320" y="5732280"/>
              <a:ext cx="740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1155600" y="616572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1155600" y="652464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6"/>
          <p:cNvSpPr/>
          <p:nvPr/>
        </p:nvSpPr>
        <p:spPr>
          <a:xfrm>
            <a:off x="533520" y="1549440"/>
            <a:ext cx="42098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１．上司が</a:t>
            </a:r>
            <a:br>
              <a:rPr sz="2100"/>
            </a:b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2"/>
          <p:cNvSpPr/>
          <p:nvPr/>
        </p:nvSpPr>
        <p:spPr>
          <a:xfrm>
            <a:off x="-6480" y="44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3"/>
          <p:cNvSpPr/>
          <p:nvPr/>
        </p:nvSpPr>
        <p:spPr>
          <a:xfrm>
            <a:off x="7545240" y="28728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9800" y="533160"/>
            <a:ext cx="58420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のやるべきこ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63440" y="1341360"/>
            <a:ext cx="6670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自分達の思い描くサークルリーダーになるために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08080" y="1798560"/>
            <a:ext cx="203976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54000" y="2027160"/>
            <a:ext cx="0" cy="352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749160" y="385596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147840" y="2027160"/>
            <a:ext cx="2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952560" y="20257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966960" y="556560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125360" y="3627360"/>
            <a:ext cx="198144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095480" y="5262480"/>
            <a:ext cx="203832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3100320" y="390060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141720" y="556092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2"/>
          <p:cNvSpPr/>
          <p:nvPr/>
        </p:nvSpPr>
        <p:spPr>
          <a:xfrm>
            <a:off x="-33480" y="71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3"/>
          <p:cNvSpPr/>
          <p:nvPr/>
        </p:nvSpPr>
        <p:spPr>
          <a:xfrm>
            <a:off x="7561440" y="3049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4788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リーダーとしての心得３カ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447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１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920" y="321300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２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31920" y="4876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３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137160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48280" y="100476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決意表明（メンバー全員が記入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105520" y="1371600"/>
            <a:ext cx="45720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2"/>
          <p:cNvSpPr/>
          <p:nvPr/>
        </p:nvSpPr>
        <p:spPr>
          <a:xfrm>
            <a:off x="-50760" y="76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3"/>
          <p:cNvSpPr/>
          <p:nvPr/>
        </p:nvSpPr>
        <p:spPr>
          <a:xfrm>
            <a:off x="7486560" y="30780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160" y="379440"/>
            <a:ext cx="5613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ＱＣサークルリーダーとしての私の行動計画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520" y="838080"/>
          <a:ext cx="9696600" cy="5791320"/>
        </p:xfrm>
        <a:graphic>
          <a:graphicData uri="http://schemas.openxmlformats.org/drawingml/2006/table">
            <a:tbl>
              <a:tblPr/>
              <a:tblGrid>
                <a:gridCol w="304920"/>
                <a:gridCol w="838080"/>
                <a:gridCol w="1067040"/>
                <a:gridCol w="182520"/>
                <a:gridCol w="2077920"/>
                <a:gridCol w="1320840"/>
                <a:gridCol w="563400"/>
                <a:gridCol w="1417680"/>
                <a:gridCol w="457200"/>
                <a:gridCol w="1467000"/>
              </a:tblGrid>
              <a:tr h="6552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社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　属</a:t>
                      </a:r>
                      <a:br>
                        <a:rPr sz="1100"/>
                      </a:b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氏名</a:t>
                      </a:r>
                      <a:br>
                        <a:rPr sz="13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場所</a:t>
                      </a:r>
                      <a:br>
                        <a:rPr sz="1300"/>
                      </a:b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刈谷市産業振興センタ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年月日</a:t>
                      </a:r>
                      <a:br>
                        <a:rPr sz="1300"/>
                      </a:br>
                      <a:r>
                        <a:rPr b="1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年　　月　　 日（　 ）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 gridSpan="10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私の決意表明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リーダーとしての心得３カ条などから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今後やるべきこと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２～３項目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実施項目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自分で何をす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具体的方法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どのような方法でや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動期間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いつから、いつまで、回数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完了時点の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己評価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司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アドバイ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計画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完了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60"/>
          <p:cNvSpPr/>
          <p:nvPr/>
        </p:nvSpPr>
        <p:spPr>
          <a:xfrm>
            <a:off x="101520" y="6613560"/>
            <a:ext cx="439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【経路】本人⇒研修会事務局⇒各社事務局⇒上司⇒本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7616880" y="36360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Ａコース：　　　　　グルー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9:17:19Z</dcterms:created>
  <dc:creator>wh21913</dc:creator>
  <dc:description/>
  <dc:language>en-US</dc:language>
  <cp:lastModifiedBy>横畑　正則</cp:lastModifiedBy>
  <cp:lastPrinted>2021-03-31T07:06:09Z</cp:lastPrinted>
  <dcterms:modified xsi:type="dcterms:W3CDTF">2024-01-15T07:55:57Z</dcterms:modified>
  <cp:revision>161</cp:revision>
  <dc:subject/>
  <dc:title>PowerPoint プレゼンテーション</dc:title>
</cp:coreProperties>
</file>