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5B3-06F6-4E3D-9571-AF4B2D30A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96B2-D112-4519-86BD-30764F81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DBF459-55F6-4211-A242-EC59D05E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CD812-BAE5-4D7D-B538-91FD0564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65BAD-0A83-4A7E-830E-BA710ED5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80C7C-3C75-4CC0-B631-3EF5F37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8E65-F9E3-43B5-8089-04103526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65A86-242E-4859-ACA8-ADAB915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D8C6D-EF0E-479A-B80E-1154CCEB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81837-3A7B-47FE-8150-739E0BA7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67CD7-61F8-4EB9-B311-8993CA3FC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AF1316-E371-45C0-AB73-8FC9CBC4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4B5-294D-416F-ACC6-B568F10D5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D86A0-B314-4F0B-AC44-4525CFF1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0C555-5C9F-4233-AA79-C50AB839B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C2187-4622-4970-8C6E-49A5D4FA1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17E3C-E117-4D47-BD0B-DCDF6D3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B2DE3-DC47-4E6E-8354-139EBDEC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D826DE-E773-4999-9450-BAAD3D60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22F73-01A9-47C9-B8FD-ED37E955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231AC-0FC4-44D9-8FDE-50EDFB92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04272-A240-4112-9EA0-7FAFE0FB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DF098-990E-4A00-A5B3-FD3C63AEB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6ACE-7C96-47A6-9DB3-6A5A06EE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C9F2F-4C36-42EA-A27D-E6406B78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43BD-9537-4B33-ABD4-97FAFE97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399273-1179-48DF-9696-611D667F7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2ACE4B-91EF-4B9D-82A0-D81ECEE9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3812AE-3C2E-43E9-A1AA-21300FB76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DFECC-E9FD-4492-8FE1-534C78B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7ABC8-BA32-4F66-A89C-B558CB13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20910-F449-48F6-B72F-9E4AC1A7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8E1EE-9736-429E-A722-358BE2CAC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F9B6-E444-4548-BF7B-7C78A6C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E625-88A7-42C0-9C98-2D759F38B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DB9A6A-BD3E-4A68-9291-9A5B4A27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DFF628-B86D-4195-BB52-70CA18A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1E65E-FC90-41CC-AF64-B79D0DAC6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CB49C-D75C-488C-96BA-F72C67C4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03A61-45BF-4E6D-9F83-9E36C9805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CECBB8-E49E-4B13-A042-6C7FADF8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1284D-1690-455B-8904-D1E24F82B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13E3-471A-49A7-AF24-42B9AFE9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B1166-9B8D-4ACE-9E00-A1BA66F1C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125B4E-71D7-4FF0-9113-C81CF9BAD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03DE-6847-4D18-A7D9-C9892E1A3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C3A866-A374-457F-88A2-21F07A8BF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01517-EE94-48B5-A472-7A461CB9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A07279-0227-4FD4-9A51-3CA431F30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0C47A-4A1F-421D-ACE8-4AA77E732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1B4BC6-2A13-49EA-A936-35DC9198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696FD9-CDEA-470A-A697-4A11B9DF7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8BA27-CAC9-46DC-A334-0F2F00DF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4B1E7F-7E52-4FF5-9BC8-CE8319E5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6B1B8-5A5D-4C99-90B8-5EA15D0D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B22166-0E1F-4A77-A8ED-8809D1A6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DC61-FA8A-4B08-B1D2-0F299375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47A3E-E6E0-49AD-943A-E6688757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50711-7FA3-4042-996B-6A87811E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844C5-63C0-458F-9AD8-F4C8E290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209020-31E7-4A87-A13E-9D805169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86DBF-1224-4C8B-94CF-F804FEC4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FDC7D2-16CB-4E18-9AD3-6FF0193EE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138FF5-9C0E-490A-BC2F-9853EC68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117345-6603-49C3-B930-2193AE6E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7B0F55-3259-4BC4-AE60-1382A466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2A280F-4798-44BB-8C5B-98498923A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80D0-F75D-4697-9024-4D1F73C2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85879-1681-4AF8-A0B5-8438E979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1D35DB-7F28-47CA-A038-8C82949A1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1322E-34DC-4B4B-BF6A-CD78BFF8C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916BE-51EF-4ED0-B99D-204E6924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0CC83A-9E65-4DCD-92BC-0051CC2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84A9E2-D6F6-47F5-8B2C-46FD1511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25E0B-1DBC-480B-86CF-8984227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5131A8-B51C-4E04-A94E-2465D2C5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C0235F-D9C2-42C0-A3CD-C8B432732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F124-492E-4A02-AEFA-CE6BE915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97ED-DC44-4D39-959E-6B2A91B24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4E5-556E-49B6-9338-1DFC3AAB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71BE-801E-4AFA-8352-0068B542A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DC77-1D59-45EA-9F23-920C8153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00B0-056C-4007-8DE0-02D39124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A73-5C70-4BD9-A3FB-633F417A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512E-76BC-4BF0-9263-AF525DEDD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1155-3565-444A-B57D-53FA81AC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7C6D1-741E-455F-887C-6E78931D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95A07-BF24-4725-A94D-82826AAA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BFBF5-E2FA-4D57-88D1-B7DC5B34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80A2-0CEE-40F7-8FD0-734CA8FF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05326-4152-4E16-AD0A-E82857C6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408A-C5EF-4DE7-BBCA-B514B4BF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98F60-FE3E-4C64-BB00-796D3076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FA249-5E28-4969-806F-8D2246B0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A5341-26BE-441D-995C-4316248D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594DD-91BF-4591-BDB3-70FE44B55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2232-BFF5-4901-ABCC-32094E95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2CAD3-E25A-4A9C-BBBC-AC90C93C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59618-481B-4FDF-8BDF-12C2208C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4C652-8AB8-4DD3-BC7E-BDECADD0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0F4CB-88FF-453C-ADA3-4C73B781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5ADF1-116A-4718-925F-A05A971B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79BA-0099-4DD4-9F7D-65EB1E1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FFF82-9B88-4A00-ACA3-A91D46EFB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E3804-F4F6-4124-BC36-DB72C40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1D865-D0B6-46DD-8663-19A259EA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4358-01C9-4774-98EF-4E268B48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AF694-F180-4336-8FD3-8D02620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D702C-3B62-4E5F-8366-4AC50AB4E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538B1-31FE-462B-9E81-4415F9AD1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32E0B-2F36-4E93-8A7D-950EFB98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683DF-815D-42D0-AFC2-5EA1D0E6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2619D-0314-421B-B20E-D207A6F8D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634F-05AD-474E-B54D-B5567AAD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677B-281E-4E09-BB19-F5718C56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93BF1-B77B-4D6D-AB61-915010E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CA6A65-3420-4FD4-B59F-E84EB29D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475E7-2737-4D93-BC30-3C6E0708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8EA2E-F641-402F-9E49-CA1F31C7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6FBB4-0561-4EE9-A5A8-B31A4EA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AF8A5-0D07-4A31-B252-5F1B6ED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EC3495-A8F6-4E96-96BD-13EFFCA6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126B4-8BB2-4950-9651-204987A8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F3BE4-9B98-461A-A2DC-C724E143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753-358E-4181-A0DC-27AC23A1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A823C-A2D3-4C0D-994C-5937AAF85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8BFB-8A39-4A89-8D7A-61BDE1D91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276E8-F46A-4A0D-B5B7-B7BB4DA5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6DA379-C0C5-4228-B1B6-FA22B521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DF48E-FCB0-45AF-8ABD-D40873493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5074D-376B-43F8-A472-31781BB9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75087-C15C-4651-B510-B474C33A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97FA8-2A78-4036-B04E-78D79839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1D105-9048-431F-BB60-4927678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49EE1-D82D-4634-9AE3-9B7473E5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C18-2C8F-472B-B15D-FCC5794D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1A057-75B1-4D45-9D18-DA693AB7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AA1433-A400-4F94-9567-35CFD6FCA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F7C35-0A67-4235-ADD6-D262D1B32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E7E8-2E53-42DA-86D0-9F3A3EEA0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7A79C1-5117-4B05-9100-42C5009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68C97-2EAD-4BCF-ACFD-0B34EDC3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2F46E-0AC8-48A9-B40C-1721A89A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C5FF0-12DE-4DEC-AF5F-E4D11FF8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8949-0875-4822-B851-A0F631BE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ADCFE-F4E6-4EE7-BB81-D19B09BF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125-DEC0-4E72-B72E-22260783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710D3-4860-463E-B6C5-AF640E6D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322B4-4407-4E21-B0CF-C059E45E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710D7-DE2B-4C91-B85F-397AB98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2387-30AD-4BF4-A4AD-400FBEE4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B324D-C420-4BA0-9E64-2D447651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F854F-1426-4C61-A3B3-157441C26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70F0B1-14BA-4A2C-A883-5B798AA8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CF9F3-A752-41C7-92EA-69578D3B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B9E90-F7D4-4BE0-995E-A83E107F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C6788-D1D5-4C28-A96C-028868AD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897D-6775-4F9A-8AD0-0478ADF8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F6366-A56E-47EB-9823-99683911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AB41-AB87-4D08-9998-5D5E9A7F6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59897-71D3-4BCD-81EC-9D304EB2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4AA98-A2E4-4A6F-888F-6701766B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271A1-44AD-4618-AE5D-12A78DD0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C6D04-4FD5-49A4-9B9F-71E122DF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88360E-8609-4CDB-85F4-35EFAFC2F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FEA63-296A-4844-80B0-8C5A96D42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6A8C6-0AF8-42D4-B4C1-DBFCA52A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1029BE-800F-44EF-9419-D225B12E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C9F4-7010-48E1-979A-91EA40608C45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CCC93-2D32-47B8-B907-85518D07D83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AADE-5221-4F9C-A2E8-1BCDFFA20DBB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A25B-AEFD-4C28-812F-EA7C86EDCB0F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0816-E4EC-4009-AC72-D24503FE8212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DE7C-AEF8-44D6-96DE-20A12B3D73B3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E812-039B-4BEF-AC80-4A94683C4692}" type="slidenum"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7458-2FED-48B6-A810-58D6EB04CEAD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C91F3-3ED5-4896-A60C-5ADEF28C8E48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04FF-4450-4DE3-879A-C3E93211E1D7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2558-FF1C-4450-9410-2C69D200513F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9648-D0C2-4A6B-AA0D-889A6F28CE46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7F88-D0F4-437B-9BDF-AF64E56B9501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299B-E3DF-42B4-9DAB-961AB7B53F5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12"/>
          <p:cNvSpPr/>
          <p:nvPr/>
        </p:nvSpPr>
        <p:spPr>
          <a:xfrm>
            <a:off x="200160" y="177840"/>
            <a:ext cx="24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5" name="AutoShape 113"/>
          <p:cNvSpPr/>
          <p:nvPr/>
        </p:nvSpPr>
        <p:spPr>
          <a:xfrm>
            <a:off x="150840" y="457200"/>
            <a:ext cx="884232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30120" y="3263760"/>
          <a:ext cx="4959360" cy="3267360"/>
        </p:xfrm>
        <a:graphic>
          <a:graphicData uri="http://schemas.openxmlformats.org/drawingml/2006/table">
            <a:tbl>
              <a:tblPr/>
              <a:tblGrid>
                <a:gridCol w="368280"/>
                <a:gridCol w="1125720"/>
                <a:gridCol w="1358640"/>
                <a:gridCol w="210672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3"/>
          <p:cNvSpPr/>
          <p:nvPr/>
        </p:nvSpPr>
        <p:spPr>
          <a:xfrm>
            <a:off x="330120" y="2857680"/>
            <a:ext cx="1546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438880" y="3244680"/>
          <a:ext cx="3403440" cy="2529000"/>
        </p:xfrm>
        <a:graphic>
          <a:graphicData uri="http://schemas.openxmlformats.org/drawingml/2006/table">
            <a:tbl>
              <a:tblPr/>
              <a:tblGrid>
                <a:gridCol w="514080"/>
                <a:gridCol w="2305080"/>
                <a:gridCol w="58428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が積極的に発言す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で時間を守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Text Box 114"/>
          <p:cNvSpPr/>
          <p:nvPr/>
        </p:nvSpPr>
        <p:spPr>
          <a:xfrm>
            <a:off x="5913360" y="5842080"/>
            <a:ext cx="2518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1" name="Rectangle 115"/>
          <p:cNvSpPr/>
          <p:nvPr/>
        </p:nvSpPr>
        <p:spPr>
          <a:xfrm>
            <a:off x="5454720" y="2882880"/>
            <a:ext cx="2666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87280" y="488880"/>
            <a:ext cx="2252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179280" y="1022400"/>
            <a:ext cx="3122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Ｂ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6765840" y="53352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30120" y="1625760"/>
          <a:ext cx="2590920" cy="990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Rectangle 13"/>
          <p:cNvSpPr/>
          <p:nvPr/>
        </p:nvSpPr>
        <p:spPr>
          <a:xfrm>
            <a:off x="3102120" y="765000"/>
            <a:ext cx="320040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3911760" y="635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588" name="グループ化 1"/>
          <p:cNvGrpSpPr/>
          <p:nvPr/>
        </p:nvGrpSpPr>
        <p:grpSpPr>
          <a:xfrm>
            <a:off x="6483240" y="1054080"/>
            <a:ext cx="2408400" cy="1611360"/>
            <a:chOff x="6483240" y="1054080"/>
            <a:chExt cx="2408400" cy="1611360"/>
          </a:xfrm>
        </p:grpSpPr>
        <p:sp>
          <p:nvSpPr>
            <p:cNvPr id="589" name="Rectangle 15"/>
            <p:cNvSpPr/>
            <p:nvPr/>
          </p:nvSpPr>
          <p:spPr>
            <a:xfrm>
              <a:off x="6483240" y="2117880"/>
              <a:ext cx="2393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0" name="Rectangle 16"/>
            <p:cNvSpPr/>
            <p:nvPr/>
          </p:nvSpPr>
          <p:spPr>
            <a:xfrm>
              <a:off x="6483240" y="184464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1" name="Rectangle 17"/>
            <p:cNvSpPr/>
            <p:nvPr/>
          </p:nvSpPr>
          <p:spPr>
            <a:xfrm>
              <a:off x="6498000" y="1341360"/>
              <a:ext cx="2393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2" name="Rectangle 18"/>
            <p:cNvSpPr/>
            <p:nvPr/>
          </p:nvSpPr>
          <p:spPr>
            <a:xfrm>
              <a:off x="6483240" y="105408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3" name="Line 19"/>
            <p:cNvSpPr/>
            <p:nvPr/>
          </p:nvSpPr>
          <p:spPr>
            <a:xfrm>
              <a:off x="6483240" y="105408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4" name="Line 20"/>
            <p:cNvSpPr/>
            <p:nvPr/>
          </p:nvSpPr>
          <p:spPr>
            <a:xfrm>
              <a:off x="6483240" y="132696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5" name="Line 21"/>
            <p:cNvSpPr/>
            <p:nvPr/>
          </p:nvSpPr>
          <p:spPr>
            <a:xfrm>
              <a:off x="6483240" y="184464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6" name="Line 22"/>
            <p:cNvSpPr/>
            <p:nvPr/>
          </p:nvSpPr>
          <p:spPr>
            <a:xfrm>
              <a:off x="6483240" y="211788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7" name="Line 23"/>
            <p:cNvSpPr/>
            <p:nvPr/>
          </p:nvSpPr>
          <p:spPr>
            <a:xfrm>
              <a:off x="6483240" y="266544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8" name="Line 24"/>
            <p:cNvSpPr/>
            <p:nvPr/>
          </p:nvSpPr>
          <p:spPr>
            <a:xfrm>
              <a:off x="648324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887688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10960" y="851040"/>
          <a:ext cx="8651880" cy="546084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3" name="Text Box 81"/>
          <p:cNvSpPr/>
          <p:nvPr/>
        </p:nvSpPr>
        <p:spPr>
          <a:xfrm>
            <a:off x="914400" y="9907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4" name="Text Box 82"/>
          <p:cNvSpPr/>
          <p:nvPr/>
        </p:nvSpPr>
        <p:spPr>
          <a:xfrm>
            <a:off x="304920" y="137160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5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6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00160" y="1062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965160" y="968400"/>
            <a:ext cx="31402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検査結果を棒グラフで表す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281160" y="685800"/>
            <a:ext cx="8570880" cy="59785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6367320" y="9684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目標値を決め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492120" y="457200"/>
            <a:ext cx="339408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現状の把握と目標設定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960480" y="11970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規格と比較す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17" name="オブジェクト 4"/>
          <p:cNvGraphicFramePr/>
          <p:nvPr/>
        </p:nvGraphicFramePr>
        <p:xfrm>
          <a:off x="492120" y="1523880"/>
          <a:ext cx="810432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オブジェクト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523880"/>
                    <a:ext cx="810432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2954160" y="762120"/>
            <a:ext cx="309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特性要因図を使って要因を絞り込む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0" name="AutoShape 3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1" name="AutoShape 4"/>
          <p:cNvSpPr/>
          <p:nvPr/>
        </p:nvSpPr>
        <p:spPr>
          <a:xfrm>
            <a:off x="561960" y="533520"/>
            <a:ext cx="2347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因の解析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4" name="Rectangle 8"/>
          <p:cNvSpPr/>
          <p:nvPr/>
        </p:nvSpPr>
        <p:spPr>
          <a:xfrm>
            <a:off x="7772400" y="1447920"/>
            <a:ext cx="914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5" name="Line 9"/>
          <p:cNvSpPr/>
          <p:nvPr/>
        </p:nvSpPr>
        <p:spPr>
          <a:xfrm>
            <a:off x="533520" y="3886200"/>
            <a:ext cx="7162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6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2"/>
          <p:cNvSpPr/>
          <p:nvPr/>
        </p:nvSpPr>
        <p:spPr>
          <a:xfrm>
            <a:off x="517680" y="981000"/>
            <a:ext cx="4587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系統図法・マトリックス図法を使って対策立案、検討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8" name="AutoShape 3"/>
          <p:cNvSpPr/>
          <p:nvPr/>
        </p:nvSpPr>
        <p:spPr>
          <a:xfrm>
            <a:off x="150840" y="685800"/>
            <a:ext cx="88408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9" name="AutoShape 4"/>
          <p:cNvSpPr/>
          <p:nvPr/>
        </p:nvSpPr>
        <p:spPr>
          <a:xfrm>
            <a:off x="561960" y="457200"/>
            <a:ext cx="3895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対策の立案・検討と実施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6753240" y="3556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1" name="Text Box 6"/>
          <p:cNvSpPr/>
          <p:nvPr/>
        </p:nvSpPr>
        <p:spPr>
          <a:xfrm>
            <a:off x="200160" y="17784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2" name="Text Box 7"/>
          <p:cNvSpPr/>
          <p:nvPr/>
        </p:nvSpPr>
        <p:spPr>
          <a:xfrm>
            <a:off x="4935600" y="914400"/>
            <a:ext cx="29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アイデアをたくさん出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3" name="Rectangle 6"/>
          <p:cNvSpPr/>
          <p:nvPr/>
        </p:nvSpPr>
        <p:spPr>
          <a:xfrm>
            <a:off x="304920" y="1676520"/>
            <a:ext cx="60948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4" name="Rectangle 43"/>
          <p:cNvSpPr/>
          <p:nvPr/>
        </p:nvSpPr>
        <p:spPr>
          <a:xfrm>
            <a:off x="159084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１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5" name="Rectangle 44"/>
          <p:cNvSpPr/>
          <p:nvPr/>
        </p:nvSpPr>
        <p:spPr>
          <a:xfrm>
            <a:off x="305928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２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6" name="Line 12"/>
          <p:cNvSpPr/>
          <p:nvPr/>
        </p:nvSpPr>
        <p:spPr>
          <a:xfrm>
            <a:off x="9144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637" name="Group 13"/>
          <p:cNvGrpSpPr/>
          <p:nvPr/>
        </p:nvGrpSpPr>
        <p:grpSpPr>
          <a:xfrm>
            <a:off x="4343400" y="1066680"/>
            <a:ext cx="4572000" cy="5562360"/>
            <a:chOff x="4343400" y="1066680"/>
            <a:chExt cx="4572000" cy="5562360"/>
          </a:xfrm>
        </p:grpSpPr>
        <p:sp>
          <p:nvSpPr>
            <p:cNvPr id="638" name="Rectangle 2"/>
            <p:cNvSpPr/>
            <p:nvPr/>
          </p:nvSpPr>
          <p:spPr>
            <a:xfrm>
              <a:off x="7086600" y="1066680"/>
              <a:ext cx="167616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◎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 ○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△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39" name="Rectangle 21"/>
            <p:cNvSpPr/>
            <p:nvPr/>
          </p:nvSpPr>
          <p:spPr>
            <a:xfrm>
              <a:off x="4343400" y="1601640"/>
              <a:ext cx="4572000" cy="502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0" name="Line 22"/>
            <p:cNvSpPr/>
            <p:nvPr/>
          </p:nvSpPr>
          <p:spPr>
            <a:xfrm>
              <a:off x="4343400" y="205704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1" name="Line 23"/>
            <p:cNvSpPr/>
            <p:nvPr/>
          </p:nvSpPr>
          <p:spPr>
            <a:xfrm>
              <a:off x="4343400" y="2514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2" name="Line 24"/>
            <p:cNvSpPr/>
            <p:nvPr/>
          </p:nvSpPr>
          <p:spPr>
            <a:xfrm>
              <a:off x="4343400" y="2971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3" name="Line 25"/>
            <p:cNvSpPr/>
            <p:nvPr/>
          </p:nvSpPr>
          <p:spPr>
            <a:xfrm>
              <a:off x="4343400" y="3428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4" name="Line 26"/>
            <p:cNvSpPr/>
            <p:nvPr/>
          </p:nvSpPr>
          <p:spPr>
            <a:xfrm>
              <a:off x="4343400" y="3885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5" name="Line 27"/>
            <p:cNvSpPr/>
            <p:nvPr/>
          </p:nvSpPr>
          <p:spPr>
            <a:xfrm>
              <a:off x="4343400" y="43430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6" name="Line 28"/>
            <p:cNvSpPr/>
            <p:nvPr/>
          </p:nvSpPr>
          <p:spPr>
            <a:xfrm>
              <a:off x="4343400" y="4800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7" name="Line 29"/>
            <p:cNvSpPr/>
            <p:nvPr/>
          </p:nvSpPr>
          <p:spPr>
            <a:xfrm>
              <a:off x="4343400" y="5257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8" name="Line 30"/>
            <p:cNvSpPr/>
            <p:nvPr/>
          </p:nvSpPr>
          <p:spPr>
            <a:xfrm>
              <a:off x="70866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49" name="Line 31"/>
            <p:cNvSpPr/>
            <p:nvPr/>
          </p:nvSpPr>
          <p:spPr>
            <a:xfrm>
              <a:off x="75438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0" name="Line 32"/>
            <p:cNvSpPr/>
            <p:nvPr/>
          </p:nvSpPr>
          <p:spPr>
            <a:xfrm>
              <a:off x="80010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1" name="Line 36"/>
            <p:cNvSpPr/>
            <p:nvPr/>
          </p:nvSpPr>
          <p:spPr>
            <a:xfrm>
              <a:off x="4343400" y="5714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2" name="Line 37"/>
            <p:cNvSpPr/>
            <p:nvPr/>
          </p:nvSpPr>
          <p:spPr>
            <a:xfrm>
              <a:off x="4343400" y="6171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3" name="Line 32"/>
            <p:cNvSpPr/>
            <p:nvPr/>
          </p:nvSpPr>
          <p:spPr>
            <a:xfrm>
              <a:off x="8470800" y="15998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  <p:sp>
        <p:nvSpPr>
          <p:cNvPr id="654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2"/>
          <p:cNvSpPr/>
          <p:nvPr/>
        </p:nvSpPr>
        <p:spPr>
          <a:xfrm>
            <a:off x="1872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チェックシート（効果確認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10960" y="851040"/>
          <a:ext cx="8651880" cy="538632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Line 79"/>
          <p:cNvSpPr/>
          <p:nvPr/>
        </p:nvSpPr>
        <p:spPr>
          <a:xfrm>
            <a:off x="222120" y="863640"/>
            <a:ext cx="1243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8" name="Text Box 80"/>
          <p:cNvSpPr/>
          <p:nvPr/>
        </p:nvSpPr>
        <p:spPr>
          <a:xfrm>
            <a:off x="879480" y="9748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9" name="Text Box 81"/>
          <p:cNvSpPr/>
          <p:nvPr/>
        </p:nvSpPr>
        <p:spPr>
          <a:xfrm>
            <a:off x="200160" y="14320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0" name="Rectangle 82"/>
          <p:cNvSpPr/>
          <p:nvPr/>
        </p:nvSpPr>
        <p:spPr>
          <a:xfrm>
            <a:off x="6753240" y="53352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1" name="Text Box 83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200160" y="7632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６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3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4543560" y="758880"/>
            <a:ext cx="441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＊棒グラフで対策前と対策後の差が見えるように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　また、目標に対してどうだったのかを記入する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5" name="AutoShape 3"/>
          <p:cNvSpPr/>
          <p:nvPr/>
        </p:nvSpPr>
        <p:spPr>
          <a:xfrm>
            <a:off x="281160" y="685800"/>
            <a:ext cx="85816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6" name="AutoShape 4"/>
          <p:cNvSpPr/>
          <p:nvPr/>
        </p:nvSpPr>
        <p:spPr>
          <a:xfrm>
            <a:off x="561960" y="457200"/>
            <a:ext cx="2130480" cy="533520"/>
          </a:xfrm>
          <a:prstGeom prst="roundRect">
            <a:avLst>
              <a:gd name="adj" fmla="val 2797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効果の確認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393840" y="12924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サイコロ説明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8" name="Text Box 6"/>
          <p:cNvSpPr/>
          <p:nvPr/>
        </p:nvSpPr>
        <p:spPr>
          <a:xfrm>
            <a:off x="4572000" y="1292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目標との比較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0" name="Text Box 8"/>
          <p:cNvSpPr/>
          <p:nvPr/>
        </p:nvSpPr>
        <p:spPr>
          <a:xfrm>
            <a:off x="281160" y="152280"/>
            <a:ext cx="24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７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1" name="Text Box 9"/>
          <p:cNvSpPr/>
          <p:nvPr/>
        </p:nvSpPr>
        <p:spPr>
          <a:xfrm>
            <a:off x="517680" y="1052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工作図など活用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2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73" name="オブジェクト 3"/>
          <p:cNvGraphicFramePr/>
          <p:nvPr/>
        </p:nvGraphicFramePr>
        <p:xfrm>
          <a:off x="495360" y="1604880"/>
          <a:ext cx="8103960" cy="51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オブジェクト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1604880"/>
                    <a:ext cx="8103960" cy="51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AutoShape 2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6" name="AutoShape 3"/>
          <p:cNvSpPr/>
          <p:nvPr/>
        </p:nvSpPr>
        <p:spPr>
          <a:xfrm>
            <a:off x="492120" y="533520"/>
            <a:ext cx="1689120" cy="45396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まとめ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7" name="Line 4"/>
          <p:cNvSpPr/>
          <p:nvPr/>
        </p:nvSpPr>
        <p:spPr>
          <a:xfrm>
            <a:off x="4572000" y="32004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8" name="Text Box 5"/>
          <p:cNvSpPr/>
          <p:nvPr/>
        </p:nvSpPr>
        <p:spPr>
          <a:xfrm>
            <a:off x="281160" y="102888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1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標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準化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有効な対策を記録しておく。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何をどうする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9" name="Text Box 6"/>
          <p:cNvSpPr/>
          <p:nvPr/>
        </p:nvSpPr>
        <p:spPr>
          <a:xfrm>
            <a:off x="210960" y="32637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2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活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動の評価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（研修を通して学んだこと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0" name="Text Box 7"/>
          <p:cNvSpPr/>
          <p:nvPr/>
        </p:nvSpPr>
        <p:spPr>
          <a:xfrm>
            <a:off x="4560840" y="3219480"/>
            <a:ext cx="4008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3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反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省と今後の進め方</a:t>
            </a:r>
            <a:br>
              <a:rPr sz="1600"/>
            </a:b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今回の研修を今後どう活かしていくか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1" name="Line 8"/>
          <p:cNvSpPr/>
          <p:nvPr/>
        </p:nvSpPr>
        <p:spPr>
          <a:xfrm>
            <a:off x="141120" y="3187800"/>
            <a:ext cx="88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2" name="Rectangle 9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3" name="Text Box 10"/>
          <p:cNvSpPr/>
          <p:nvPr/>
        </p:nvSpPr>
        <p:spPr>
          <a:xfrm>
            <a:off x="281160" y="152280"/>
            <a:ext cx="26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８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4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210960" y="851040"/>
          <a:ext cx="8651880" cy="546408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鈴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前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青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佐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7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8" name="Text Box 81"/>
          <p:cNvSpPr/>
          <p:nvPr/>
        </p:nvSpPr>
        <p:spPr>
          <a:xfrm>
            <a:off x="971640" y="10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9" name="Text Box 82"/>
          <p:cNvSpPr/>
          <p:nvPr/>
        </p:nvSpPr>
        <p:spPr>
          <a:xfrm>
            <a:off x="200160" y="148284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0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1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３～４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2" name="Text Box 85"/>
          <p:cNvSpPr/>
          <p:nvPr/>
        </p:nvSpPr>
        <p:spPr>
          <a:xfrm>
            <a:off x="4716360" y="260280"/>
            <a:ext cx="147636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記入例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3" name="Line 86"/>
          <p:cNvSpPr/>
          <p:nvPr/>
        </p:nvSpPr>
        <p:spPr>
          <a:xfrm flipH="1">
            <a:off x="1617840" y="213372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4" name="Line 87"/>
          <p:cNvSpPr/>
          <p:nvPr/>
        </p:nvSpPr>
        <p:spPr>
          <a:xfrm flipH="1">
            <a:off x="1547280" y="213372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5" name="Line 88"/>
          <p:cNvSpPr/>
          <p:nvPr/>
        </p:nvSpPr>
        <p:spPr>
          <a:xfrm flipH="1">
            <a:off x="1700280" y="21463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6" name="Line 89"/>
          <p:cNvSpPr/>
          <p:nvPr/>
        </p:nvSpPr>
        <p:spPr>
          <a:xfrm flipH="1">
            <a:off x="210996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7" name="Line 90"/>
          <p:cNvSpPr/>
          <p:nvPr/>
        </p:nvSpPr>
        <p:spPr>
          <a:xfrm>
            <a:off x="1547640" y="2171880"/>
            <a:ext cx="42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8" name="Line 91"/>
          <p:cNvSpPr/>
          <p:nvPr/>
        </p:nvSpPr>
        <p:spPr>
          <a:xfrm flipH="1">
            <a:off x="37983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9" name="Line 92"/>
          <p:cNvSpPr/>
          <p:nvPr/>
        </p:nvSpPr>
        <p:spPr>
          <a:xfrm flipH="1">
            <a:off x="37274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0" name="Line 93"/>
          <p:cNvSpPr/>
          <p:nvPr/>
        </p:nvSpPr>
        <p:spPr>
          <a:xfrm flipH="1">
            <a:off x="38793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1" name="Line 94"/>
          <p:cNvSpPr/>
          <p:nvPr/>
        </p:nvSpPr>
        <p:spPr>
          <a:xfrm flipH="1">
            <a:off x="39625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2" name="Line 95"/>
          <p:cNvSpPr/>
          <p:nvPr/>
        </p:nvSpPr>
        <p:spPr>
          <a:xfrm flipH="1">
            <a:off x="28839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3" name="Line 96"/>
          <p:cNvSpPr/>
          <p:nvPr/>
        </p:nvSpPr>
        <p:spPr>
          <a:xfrm flipH="1">
            <a:off x="28130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4" name="Line 97"/>
          <p:cNvSpPr/>
          <p:nvPr/>
        </p:nvSpPr>
        <p:spPr>
          <a:xfrm flipH="1">
            <a:off x="29649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5" name="Line 98"/>
          <p:cNvSpPr/>
          <p:nvPr/>
        </p:nvSpPr>
        <p:spPr>
          <a:xfrm flipH="1">
            <a:off x="30481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6" name="Line 99"/>
          <p:cNvSpPr/>
          <p:nvPr/>
        </p:nvSpPr>
        <p:spPr>
          <a:xfrm flipH="1">
            <a:off x="392760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7" name="Line 100"/>
          <p:cNvSpPr/>
          <p:nvPr/>
        </p:nvSpPr>
        <p:spPr>
          <a:xfrm flipH="1">
            <a:off x="385776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8" name="Line 101"/>
          <p:cNvSpPr/>
          <p:nvPr/>
        </p:nvSpPr>
        <p:spPr>
          <a:xfrm flipH="1">
            <a:off x="4010040" y="28954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9" name="Line 102"/>
          <p:cNvSpPr/>
          <p:nvPr/>
        </p:nvSpPr>
        <p:spPr>
          <a:xfrm flipH="1">
            <a:off x="4091040" y="290844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0" name="Line 103"/>
          <p:cNvSpPr/>
          <p:nvPr/>
        </p:nvSpPr>
        <p:spPr>
          <a:xfrm flipH="1">
            <a:off x="4853160" y="2857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1" name="Line 104"/>
          <p:cNvSpPr/>
          <p:nvPr/>
        </p:nvSpPr>
        <p:spPr>
          <a:xfrm flipH="1">
            <a:off x="47826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2" name="Line 105"/>
          <p:cNvSpPr/>
          <p:nvPr/>
        </p:nvSpPr>
        <p:spPr>
          <a:xfrm flipH="1">
            <a:off x="4935600" y="28702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3" name="Line 106"/>
          <p:cNvSpPr/>
          <p:nvPr/>
        </p:nvSpPr>
        <p:spPr>
          <a:xfrm flipH="1">
            <a:off x="501804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4" name="Line 107"/>
          <p:cNvSpPr/>
          <p:nvPr/>
        </p:nvSpPr>
        <p:spPr>
          <a:xfrm flipH="1">
            <a:off x="491184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5" name="Line 108"/>
          <p:cNvSpPr/>
          <p:nvPr/>
        </p:nvSpPr>
        <p:spPr>
          <a:xfrm flipH="1">
            <a:off x="484200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6" name="Line 109"/>
          <p:cNvSpPr/>
          <p:nvPr/>
        </p:nvSpPr>
        <p:spPr>
          <a:xfrm flipH="1">
            <a:off x="4994280" y="22096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7" name="Line 110"/>
          <p:cNvSpPr/>
          <p:nvPr/>
        </p:nvSpPr>
        <p:spPr>
          <a:xfrm flipH="1">
            <a:off x="6036840" y="2197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8" name="Line 111"/>
          <p:cNvSpPr/>
          <p:nvPr/>
        </p:nvSpPr>
        <p:spPr>
          <a:xfrm flipH="1">
            <a:off x="596736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9" name="Line 112"/>
          <p:cNvSpPr/>
          <p:nvPr/>
        </p:nvSpPr>
        <p:spPr>
          <a:xfrm flipH="1">
            <a:off x="6119280" y="220968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0" name="Line 113"/>
          <p:cNvSpPr/>
          <p:nvPr/>
        </p:nvSpPr>
        <p:spPr>
          <a:xfrm flipH="1">
            <a:off x="6200280" y="222264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1" name="Line 114"/>
          <p:cNvSpPr/>
          <p:nvPr/>
        </p:nvSpPr>
        <p:spPr>
          <a:xfrm flipH="1">
            <a:off x="7162920" y="212076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2" name="Line 115"/>
          <p:cNvSpPr/>
          <p:nvPr/>
        </p:nvSpPr>
        <p:spPr>
          <a:xfrm flipH="1">
            <a:off x="7093080" y="212076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3" name="Line 116"/>
          <p:cNvSpPr/>
          <p:nvPr/>
        </p:nvSpPr>
        <p:spPr>
          <a:xfrm flipH="1">
            <a:off x="7245360" y="21337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4" name="Line 117"/>
          <p:cNvSpPr/>
          <p:nvPr/>
        </p:nvSpPr>
        <p:spPr>
          <a:xfrm flipH="1">
            <a:off x="717408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5" name="Line 118"/>
          <p:cNvSpPr/>
          <p:nvPr/>
        </p:nvSpPr>
        <p:spPr>
          <a:xfrm flipH="1">
            <a:off x="710424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6" name="Line 119"/>
          <p:cNvSpPr/>
          <p:nvPr/>
        </p:nvSpPr>
        <p:spPr>
          <a:xfrm flipH="1">
            <a:off x="7256520" y="27939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7" name="Line 120"/>
          <p:cNvSpPr/>
          <p:nvPr/>
        </p:nvSpPr>
        <p:spPr>
          <a:xfrm flipH="1">
            <a:off x="611928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8" name="Line 121"/>
          <p:cNvSpPr/>
          <p:nvPr/>
        </p:nvSpPr>
        <p:spPr>
          <a:xfrm flipH="1">
            <a:off x="60480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9" name="Line 122"/>
          <p:cNvSpPr/>
          <p:nvPr/>
        </p:nvSpPr>
        <p:spPr>
          <a:xfrm flipH="1">
            <a:off x="6200280" y="28702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0" name="Line 123"/>
          <p:cNvSpPr/>
          <p:nvPr/>
        </p:nvSpPr>
        <p:spPr>
          <a:xfrm flipH="1">
            <a:off x="499428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1" name="Line 124"/>
          <p:cNvSpPr/>
          <p:nvPr/>
        </p:nvSpPr>
        <p:spPr>
          <a:xfrm flipH="1">
            <a:off x="492444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2" name="Line 125"/>
          <p:cNvSpPr/>
          <p:nvPr/>
        </p:nvSpPr>
        <p:spPr>
          <a:xfrm flipH="1">
            <a:off x="5076720" y="37083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3" name="Line 126"/>
          <p:cNvSpPr/>
          <p:nvPr/>
        </p:nvSpPr>
        <p:spPr>
          <a:xfrm flipH="1">
            <a:off x="393876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4" name="Line 127"/>
          <p:cNvSpPr/>
          <p:nvPr/>
        </p:nvSpPr>
        <p:spPr>
          <a:xfrm flipH="1">
            <a:off x="38682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5" name="Line 128"/>
          <p:cNvSpPr/>
          <p:nvPr/>
        </p:nvSpPr>
        <p:spPr>
          <a:xfrm flipH="1">
            <a:off x="4021200" y="36320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6" name="Line 129"/>
          <p:cNvSpPr/>
          <p:nvPr/>
        </p:nvSpPr>
        <p:spPr>
          <a:xfrm flipH="1">
            <a:off x="29538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7" name="Line 130"/>
          <p:cNvSpPr/>
          <p:nvPr/>
        </p:nvSpPr>
        <p:spPr>
          <a:xfrm flipH="1">
            <a:off x="28839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8" name="Line 131"/>
          <p:cNvSpPr/>
          <p:nvPr/>
        </p:nvSpPr>
        <p:spPr>
          <a:xfrm flipH="1">
            <a:off x="30369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9" name="Line 132"/>
          <p:cNvSpPr/>
          <p:nvPr/>
        </p:nvSpPr>
        <p:spPr>
          <a:xfrm flipH="1">
            <a:off x="31179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0" name="Line 133"/>
          <p:cNvSpPr/>
          <p:nvPr/>
        </p:nvSpPr>
        <p:spPr>
          <a:xfrm>
            <a:off x="28843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1" name="Line 134"/>
          <p:cNvSpPr/>
          <p:nvPr/>
        </p:nvSpPr>
        <p:spPr>
          <a:xfrm flipH="1">
            <a:off x="15822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2" name="Line 135"/>
          <p:cNvSpPr/>
          <p:nvPr/>
        </p:nvSpPr>
        <p:spPr>
          <a:xfrm flipH="1">
            <a:off x="15123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3" name="Line 136"/>
          <p:cNvSpPr/>
          <p:nvPr/>
        </p:nvSpPr>
        <p:spPr>
          <a:xfrm flipH="1">
            <a:off x="16653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4" name="Line 137"/>
          <p:cNvSpPr/>
          <p:nvPr/>
        </p:nvSpPr>
        <p:spPr>
          <a:xfrm flipH="1">
            <a:off x="17463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5" name="Line 138"/>
          <p:cNvSpPr/>
          <p:nvPr/>
        </p:nvSpPr>
        <p:spPr>
          <a:xfrm>
            <a:off x="15127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6" name="Line 139"/>
          <p:cNvSpPr/>
          <p:nvPr/>
        </p:nvSpPr>
        <p:spPr>
          <a:xfrm flipH="1">
            <a:off x="15933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7" name="Line 140"/>
          <p:cNvSpPr/>
          <p:nvPr/>
        </p:nvSpPr>
        <p:spPr>
          <a:xfrm flipH="1">
            <a:off x="152352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8" name="Line 141"/>
          <p:cNvSpPr/>
          <p:nvPr/>
        </p:nvSpPr>
        <p:spPr>
          <a:xfrm flipH="1">
            <a:off x="1676520" y="3568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9" name="Line 142"/>
          <p:cNvSpPr/>
          <p:nvPr/>
        </p:nvSpPr>
        <p:spPr>
          <a:xfrm flipH="1">
            <a:off x="1758960" y="35812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0" name="Line 143"/>
          <p:cNvSpPr/>
          <p:nvPr/>
        </p:nvSpPr>
        <p:spPr>
          <a:xfrm flipH="1">
            <a:off x="60480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1" name="Line 144"/>
          <p:cNvSpPr/>
          <p:nvPr/>
        </p:nvSpPr>
        <p:spPr>
          <a:xfrm flipH="1">
            <a:off x="597852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2" name="Line 145"/>
          <p:cNvSpPr/>
          <p:nvPr/>
        </p:nvSpPr>
        <p:spPr>
          <a:xfrm flipH="1">
            <a:off x="6130440" y="36320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3" name="Line 146"/>
          <p:cNvSpPr/>
          <p:nvPr/>
        </p:nvSpPr>
        <p:spPr>
          <a:xfrm flipH="1">
            <a:off x="710424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4" name="Line 147"/>
          <p:cNvSpPr/>
          <p:nvPr/>
        </p:nvSpPr>
        <p:spPr>
          <a:xfrm flipH="1">
            <a:off x="7033680" y="361944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5" name="Line 148"/>
          <p:cNvSpPr/>
          <p:nvPr/>
        </p:nvSpPr>
        <p:spPr>
          <a:xfrm flipH="1">
            <a:off x="2883960" y="35434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6" name="Line 149"/>
          <p:cNvSpPr/>
          <p:nvPr/>
        </p:nvSpPr>
        <p:spPr>
          <a:xfrm flipH="1">
            <a:off x="2813040" y="35434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7" name="Line 150"/>
          <p:cNvSpPr/>
          <p:nvPr/>
        </p:nvSpPr>
        <p:spPr>
          <a:xfrm flipH="1">
            <a:off x="29649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8" name="Line 151"/>
          <p:cNvSpPr/>
          <p:nvPr/>
        </p:nvSpPr>
        <p:spPr>
          <a:xfrm flipH="1">
            <a:off x="219240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9" name="Line 152"/>
          <p:cNvSpPr/>
          <p:nvPr/>
        </p:nvSpPr>
        <p:spPr>
          <a:xfrm flipH="1">
            <a:off x="180504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0" name="Line 153"/>
          <p:cNvSpPr/>
          <p:nvPr/>
        </p:nvSpPr>
        <p:spPr>
          <a:xfrm flipH="1">
            <a:off x="2085480" y="28828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1" name="Text Box 28"/>
          <p:cNvSpPr/>
          <p:nvPr/>
        </p:nvSpPr>
        <p:spPr>
          <a:xfrm>
            <a:off x="5602320" y="162000"/>
            <a:ext cx="335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事務・販売・サービス入門・初級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2:24:24Z</dcterms:created>
  <dc:creator>FJ-USER</dc:creator>
  <dc:description/>
  <dc:language>en-US</dc:language>
  <cp:lastModifiedBy>Windowsユーザー</cp:lastModifiedBy>
  <cp:lastPrinted>2024-11-08T00:30:33Z</cp:lastPrinted>
  <dcterms:modified xsi:type="dcterms:W3CDTF">2025-04-30T05:21:34Z</dcterms:modified>
  <cp:revision>55</cp:revision>
  <dc:subject/>
  <dc:title>PowerPoint プレゼンテーション</dc:title>
</cp:coreProperties>
</file>