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0B9-2185-4762-8985-773A7C645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06B5-54F1-4FDB-A63C-D63BB7A9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77E3-671F-4080-8FC8-112F04856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367-2E21-41D6-8645-286CD4E4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14C7-55E2-410F-969D-84EA08FC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9239-8A61-48AB-97BE-C47F9083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05D3-420B-4502-B98E-C1DCB4A63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875D-5A44-4B37-A60A-B4A45B45F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8EF7-939C-412A-A151-156708AF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73C7-BCA5-48F6-8C39-34052056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4F0-6A62-481F-B171-36EE80AE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B80-6F41-4946-ADA7-404551FB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864E-4C01-485A-9EE3-9B5B9516C817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2"/>
          <p:cNvSpPr/>
          <p:nvPr/>
        </p:nvSpPr>
        <p:spPr>
          <a:xfrm>
            <a:off x="0" y="3960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Ａコース　ＧＤ記録用紙（発表資料１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12"/>
          <p:cNvSpPr/>
          <p:nvPr/>
        </p:nvSpPr>
        <p:spPr>
          <a:xfrm>
            <a:off x="7121520" y="60480"/>
            <a:ext cx="27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事務・販売・サービス入門・初級研修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3"/>
          <p:cNvSpPr/>
          <p:nvPr/>
        </p:nvSpPr>
        <p:spPr>
          <a:xfrm>
            <a:off x="150840" y="457200"/>
            <a:ext cx="9602640" cy="6207120"/>
          </a:xfrm>
          <a:prstGeom prst="roundRect">
            <a:avLst>
              <a:gd name="adj" fmla="val 17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80880" y="3263760"/>
          <a:ext cx="5386680" cy="3267360"/>
        </p:xfrm>
        <a:graphic>
          <a:graphicData uri="http://schemas.openxmlformats.org/drawingml/2006/table">
            <a:tbl>
              <a:tblPr/>
              <a:tblGrid>
                <a:gridCol w="400320"/>
                <a:gridCol w="1223640"/>
                <a:gridCol w="1474920"/>
                <a:gridCol w="2287800"/>
              </a:tblGrid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役　　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氏　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会　社　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リーダ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サブリーダ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発表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質問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書記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書記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時間係・５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Rectangle 83"/>
          <p:cNvSpPr/>
          <p:nvPr/>
        </p:nvSpPr>
        <p:spPr>
          <a:xfrm>
            <a:off x="380880" y="2857680"/>
            <a:ext cx="167976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役割分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5935680" y="3244680"/>
          <a:ext cx="3695760" cy="2529000"/>
        </p:xfrm>
        <a:graphic>
          <a:graphicData uri="http://schemas.openxmlformats.org/drawingml/2006/table">
            <a:tbl>
              <a:tblPr/>
              <a:tblGrid>
                <a:gridCol w="558720"/>
                <a:gridCol w="2502000"/>
                <a:gridCol w="635040"/>
              </a:tblGrid>
              <a:tr h="292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内　　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評 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みんなが積極的に発言す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みんなで時間を守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114"/>
          <p:cNvSpPr/>
          <p:nvPr/>
        </p:nvSpPr>
        <p:spPr>
          <a:xfrm>
            <a:off x="5810400" y="5842080"/>
            <a:ext cx="403848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★</a:t>
            </a: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活動終了時に全員で評価を実施します</a:t>
            </a:r>
            <a:br>
              <a:rPr sz="1300"/>
            </a:b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★評価は、○、△、</a:t>
            </a:r>
            <a:r>
              <a:rPr b="0" lang="en-US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×</a:t>
            </a: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等で記入</a:t>
            </a:r>
            <a:br>
              <a:rPr sz="1300"/>
            </a:br>
            <a:r>
              <a:rPr b="0" lang="en-US" sz="15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※</a:t>
            </a:r>
            <a:r>
              <a:rPr b="0" lang="ja-JP" sz="15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全ての資料は大きく濃い字で書きましょう！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5"/>
          <p:cNvSpPr/>
          <p:nvPr/>
        </p:nvSpPr>
        <p:spPr>
          <a:xfrm>
            <a:off x="5951520" y="2882880"/>
            <a:ext cx="289548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グループの決め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338040" y="488880"/>
            <a:ext cx="244656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Times New Roman"/>
              </a:rPr>
              <a:t>グループの旗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230040" y="1022400"/>
            <a:ext cx="339120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000" spc="-1" strike="noStrike" u="sng">
                <a:solidFill>
                  <a:srgbClr val="000000"/>
                </a:solidFill>
                <a:uFillTx/>
                <a:latin typeface="ＭＳ Ｐゴシック"/>
              </a:rPr>
              <a:t>Ａコース：　　　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Times New Roman"/>
              </a:rPr>
              <a:t>グループ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80880" y="1625760"/>
          <a:ext cx="2813040" cy="990360"/>
        </p:xfrm>
        <a:graphic>
          <a:graphicData uri="http://schemas.openxmlformats.org/drawingml/2006/table">
            <a:tbl>
              <a:tblPr/>
              <a:tblGrid>
                <a:gridCol w="2813040"/>
              </a:tblGrid>
              <a:tr h="3045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グループのネーミン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Rectangle 13"/>
          <p:cNvSpPr/>
          <p:nvPr/>
        </p:nvSpPr>
        <p:spPr>
          <a:xfrm>
            <a:off x="3349800" y="765000"/>
            <a:ext cx="3474720" cy="20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4159080" y="635040"/>
            <a:ext cx="15717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シンボルマー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グループ化 27"/>
          <p:cNvGrpSpPr/>
          <p:nvPr/>
        </p:nvGrpSpPr>
        <p:grpSpPr>
          <a:xfrm>
            <a:off x="6946920" y="1054080"/>
            <a:ext cx="2614680" cy="1611360"/>
            <a:chOff x="6946920" y="1054080"/>
            <a:chExt cx="2614680" cy="1611360"/>
          </a:xfrm>
        </p:grpSpPr>
        <p:sp>
          <p:nvSpPr>
            <p:cNvPr id="55" name="Rectangle 15"/>
            <p:cNvSpPr/>
            <p:nvPr/>
          </p:nvSpPr>
          <p:spPr>
            <a:xfrm>
              <a:off x="6946920" y="2117880"/>
              <a:ext cx="259848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6"/>
            <p:cNvSpPr/>
            <p:nvPr/>
          </p:nvSpPr>
          <p:spPr>
            <a:xfrm>
              <a:off x="6946920" y="1844640"/>
              <a:ext cx="25984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アドバイザ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7"/>
            <p:cNvSpPr/>
            <p:nvPr/>
          </p:nvSpPr>
          <p:spPr>
            <a:xfrm>
              <a:off x="6963120" y="1341360"/>
              <a:ext cx="259848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8"/>
            <p:cNvSpPr/>
            <p:nvPr/>
          </p:nvSpPr>
          <p:spPr>
            <a:xfrm>
              <a:off x="6946920" y="1054080"/>
              <a:ext cx="259848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チーフアドバイザー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9"/>
            <p:cNvSpPr/>
            <p:nvPr/>
          </p:nvSpPr>
          <p:spPr>
            <a:xfrm>
              <a:off x="6946920" y="1054080"/>
              <a:ext cx="259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>
              <a:off x="6946920" y="1326960"/>
              <a:ext cx="259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>
              <a:off x="6946920" y="1844640"/>
              <a:ext cx="259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22"/>
            <p:cNvSpPr/>
            <p:nvPr/>
          </p:nvSpPr>
          <p:spPr>
            <a:xfrm>
              <a:off x="6946920" y="2117880"/>
              <a:ext cx="259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23"/>
            <p:cNvSpPr/>
            <p:nvPr/>
          </p:nvSpPr>
          <p:spPr>
            <a:xfrm>
              <a:off x="6946920" y="2665440"/>
              <a:ext cx="2598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24"/>
            <p:cNvSpPr/>
            <p:nvPr/>
          </p:nvSpPr>
          <p:spPr>
            <a:xfrm>
              <a:off x="6946920" y="1054080"/>
              <a:ext cx="0" cy="1611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25"/>
            <p:cNvSpPr/>
            <p:nvPr/>
          </p:nvSpPr>
          <p:spPr>
            <a:xfrm>
              <a:off x="9545400" y="1054080"/>
              <a:ext cx="0" cy="1611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Rectangle 4"/>
          <p:cNvSpPr/>
          <p:nvPr/>
        </p:nvSpPr>
        <p:spPr>
          <a:xfrm>
            <a:off x="7343640" y="623880"/>
            <a:ext cx="2146320" cy="2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年　　　　月　　　　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4520" y="393840"/>
            <a:ext cx="8420040" cy="658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ＱＣサークル活動の目的と自職場の実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44520" y="992160"/>
          <a:ext cx="9145440" cy="5676840"/>
        </p:xfrm>
        <a:graphic>
          <a:graphicData uri="http://schemas.openxmlformats.org/drawingml/2006/table">
            <a:tbl>
              <a:tblPr/>
              <a:tblGrid>
                <a:gridCol w="2611440"/>
                <a:gridCol w="2178000"/>
                <a:gridCol w="2176560"/>
                <a:gridCol w="2179440"/>
              </a:tblGrid>
              <a:tr h="795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ＱＣサークル活動の目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目的を達成し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職場のあるべき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ＱＣサークル活動の実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ギャップ（問題・課題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18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明朝"/>
                        </a:rPr>
                        <a:t>１．個人の能力を向上させる。</a:t>
                      </a:r>
                      <a:br>
                        <a:rPr sz="1200"/>
                      </a:b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明朝"/>
                        </a:rPr>
                        <a:t>　　（人材を育成し、技能を伝承する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9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明朝"/>
                        </a:rPr>
                        <a:t>２．職場のチームワークを良くする。</a:t>
                      </a:r>
                      <a:br>
                        <a:rPr sz="1200"/>
                      </a:b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明朝"/>
                        </a:rPr>
                        <a:t>　（ｺﾐｭﾆｹｰｼｮﾝのとれる職場作り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12"/>
          <p:cNvSpPr/>
          <p:nvPr/>
        </p:nvSpPr>
        <p:spPr>
          <a:xfrm>
            <a:off x="0" y="5724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Ａコース　ＧＤ記録用紙（発表資料２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83"/>
          <p:cNvSpPr/>
          <p:nvPr/>
        </p:nvSpPr>
        <p:spPr>
          <a:xfrm>
            <a:off x="7473960" y="290520"/>
            <a:ext cx="23209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500" spc="-1" strike="noStrike" u="sng">
                <a:solidFill>
                  <a:srgbClr val="000000"/>
                </a:solidFill>
                <a:uFillTx/>
                <a:latin typeface="Calibri"/>
              </a:rPr>
              <a:t>Ａコース：　　　　　グループ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12"/>
          <p:cNvSpPr/>
          <p:nvPr/>
        </p:nvSpPr>
        <p:spPr>
          <a:xfrm>
            <a:off x="6969240" y="60480"/>
            <a:ext cx="29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事務・販売・サービス入門・初級研修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34920" y="765000"/>
            <a:ext cx="805032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ＱＣサークルリーダーとしての「あるべき姿」の意思統一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118120" y="1549440"/>
            <a:ext cx="429264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２．サークルメンバーが</a:t>
            </a:r>
            <a:br>
              <a:rPr sz="2000"/>
            </a:br>
            <a:r>
              <a:rPr b="1" lang="ja-JP" sz="2000" spc="-1" strike="noStrike">
                <a:solidFill>
                  <a:srgbClr val="000000"/>
                </a:solidFill>
                <a:latin typeface="Times New Roman"/>
              </a:rPr>
              <a:t>期待しているリーダーの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(1)</a:t>
            </a:r>
            <a:r>
              <a:rPr b="0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1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　　　　　　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(2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　　　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(3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　　　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(4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(5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6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(6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Ｐ明朝"/>
              </a:rPr>
              <a:t>　　　　　　　　　　　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5"/>
          <p:cNvSpPr/>
          <p:nvPr/>
        </p:nvSpPr>
        <p:spPr>
          <a:xfrm>
            <a:off x="3962520" y="4264200"/>
            <a:ext cx="1898640" cy="533160"/>
          </a:xfrm>
          <a:prstGeom prst="downArrow">
            <a:avLst>
              <a:gd name="adj1" fmla="val 58815"/>
              <a:gd name="adj2" fmla="val 4613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6"/>
          <p:cNvSpPr/>
          <p:nvPr/>
        </p:nvSpPr>
        <p:spPr>
          <a:xfrm>
            <a:off x="825480" y="2495520"/>
            <a:ext cx="363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7"/>
          <p:cNvSpPr/>
          <p:nvPr/>
        </p:nvSpPr>
        <p:spPr>
          <a:xfrm>
            <a:off x="811080" y="2774880"/>
            <a:ext cx="363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8"/>
          <p:cNvSpPr/>
          <p:nvPr/>
        </p:nvSpPr>
        <p:spPr>
          <a:xfrm>
            <a:off x="825480" y="3067200"/>
            <a:ext cx="363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9"/>
          <p:cNvSpPr/>
          <p:nvPr/>
        </p:nvSpPr>
        <p:spPr>
          <a:xfrm>
            <a:off x="825480" y="3371760"/>
            <a:ext cx="363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10"/>
          <p:cNvSpPr/>
          <p:nvPr/>
        </p:nvSpPr>
        <p:spPr>
          <a:xfrm>
            <a:off x="770040" y="3676680"/>
            <a:ext cx="3632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1"/>
          <p:cNvSpPr/>
          <p:nvPr/>
        </p:nvSpPr>
        <p:spPr>
          <a:xfrm>
            <a:off x="784080" y="3981600"/>
            <a:ext cx="363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12"/>
          <p:cNvSpPr/>
          <p:nvPr/>
        </p:nvSpPr>
        <p:spPr>
          <a:xfrm>
            <a:off x="5462640" y="2505240"/>
            <a:ext cx="3632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3"/>
          <p:cNvSpPr/>
          <p:nvPr/>
        </p:nvSpPr>
        <p:spPr>
          <a:xfrm>
            <a:off x="5448240" y="2784600"/>
            <a:ext cx="363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4"/>
          <p:cNvSpPr/>
          <p:nvPr/>
        </p:nvSpPr>
        <p:spPr>
          <a:xfrm>
            <a:off x="5462640" y="3076560"/>
            <a:ext cx="3632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5"/>
          <p:cNvSpPr/>
          <p:nvPr/>
        </p:nvSpPr>
        <p:spPr>
          <a:xfrm>
            <a:off x="5462640" y="3381480"/>
            <a:ext cx="3632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16"/>
          <p:cNvSpPr/>
          <p:nvPr/>
        </p:nvSpPr>
        <p:spPr>
          <a:xfrm>
            <a:off x="5462640" y="3686040"/>
            <a:ext cx="3632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7"/>
          <p:cNvSpPr/>
          <p:nvPr/>
        </p:nvSpPr>
        <p:spPr>
          <a:xfrm>
            <a:off x="5462640" y="3978360"/>
            <a:ext cx="3632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18"/>
          <p:cNvGrpSpPr/>
          <p:nvPr/>
        </p:nvGrpSpPr>
        <p:grpSpPr>
          <a:xfrm>
            <a:off x="743040" y="4952880"/>
            <a:ext cx="8502120" cy="1692360"/>
            <a:chOff x="743040" y="4952880"/>
            <a:chExt cx="8502120" cy="1692360"/>
          </a:xfrm>
        </p:grpSpPr>
        <p:sp>
          <p:nvSpPr>
            <p:cNvPr id="88" name="Rectangle 19"/>
            <p:cNvSpPr/>
            <p:nvPr/>
          </p:nvSpPr>
          <p:spPr>
            <a:xfrm>
              <a:off x="743040" y="4952880"/>
              <a:ext cx="8502120" cy="16923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imes New Roman"/>
                </a:rPr>
                <a:t>３．自分達が思い描くＱＣサークルリーダーの『あるべき姿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imes New Roman"/>
                </a:rPr>
                <a:t>　 　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①　</a:t>
              </a:r>
              <a:r>
                <a:rPr b="1" lang="ja-JP" sz="16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　　　　　　　　　　　　　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                      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 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　②　</a:t>
              </a:r>
              <a:r>
                <a:rPr b="1" lang="ja-JP" sz="16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　　　　　　　　　　　　　　　　　　　　　　　　　　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5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   </a:t>
              </a:r>
              <a:r>
                <a:rPr b="0" lang="ja-JP" sz="1600" spc="-1" strike="noStrike">
                  <a:solidFill>
                    <a:srgbClr val="000000"/>
                  </a:solidFill>
                  <a:latin typeface="ＭＳ Ｐゴシック"/>
                </a:rPr>
                <a:t>　③　</a:t>
              </a:r>
              <a:r>
                <a:rPr b="1" lang="ja-JP" sz="16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　　　　　　　　　　　　　　　　　　　　　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20"/>
            <p:cNvSpPr/>
            <p:nvPr/>
          </p:nvSpPr>
          <p:spPr>
            <a:xfrm>
              <a:off x="1183320" y="5732280"/>
              <a:ext cx="740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21"/>
            <p:cNvSpPr/>
            <p:nvPr/>
          </p:nvSpPr>
          <p:spPr>
            <a:xfrm>
              <a:off x="1155600" y="6165720"/>
              <a:ext cx="740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22"/>
            <p:cNvSpPr/>
            <p:nvPr/>
          </p:nvSpPr>
          <p:spPr>
            <a:xfrm>
              <a:off x="1155600" y="6524640"/>
              <a:ext cx="7401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Rectangle 26"/>
          <p:cNvSpPr/>
          <p:nvPr/>
        </p:nvSpPr>
        <p:spPr>
          <a:xfrm>
            <a:off x="533520" y="1549440"/>
            <a:ext cx="420984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normAutofit fontScale="95000"/>
          </a:bodyPr>
          <a:p>
            <a:pPr marL="325800" indent="-32580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100" spc="-1" strike="noStrike">
                <a:solidFill>
                  <a:srgbClr val="000000"/>
                </a:solidFill>
                <a:latin typeface="Times New Roman"/>
              </a:rPr>
              <a:t>１．上司が</a:t>
            </a:r>
            <a:br>
              <a:rPr sz="2100"/>
            </a:br>
            <a:r>
              <a:rPr b="1" lang="ja-JP" sz="2100" spc="-1" strike="noStrike">
                <a:solidFill>
                  <a:srgbClr val="000000"/>
                </a:solidFill>
                <a:latin typeface="Times New Roman"/>
              </a:rPr>
              <a:t>期待しているリーダーの姿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(1)</a:t>
            </a:r>
            <a:r>
              <a:rPr b="0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1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                 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(2)</a:t>
            </a:r>
            <a:r>
              <a:rPr b="0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1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(3)</a:t>
            </a:r>
            <a:r>
              <a:rPr b="0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</a:t>
            </a:r>
            <a:r>
              <a:rPr b="1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　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(4)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(5)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(6)</a:t>
            </a:r>
            <a:r>
              <a:rPr b="0" lang="ja-JP" sz="17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1" lang="ja-JP" sz="17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　　　　　　　　　　　　　　　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2"/>
          <p:cNvSpPr/>
          <p:nvPr/>
        </p:nvSpPr>
        <p:spPr>
          <a:xfrm>
            <a:off x="-6480" y="4428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Ａコース　ＧＤ記録用紙（発表資料３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83"/>
          <p:cNvSpPr/>
          <p:nvPr/>
        </p:nvSpPr>
        <p:spPr>
          <a:xfrm>
            <a:off x="7545240" y="287280"/>
            <a:ext cx="23209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500" spc="-1" strike="noStrike" u="sng">
                <a:solidFill>
                  <a:srgbClr val="000000"/>
                </a:solidFill>
                <a:uFillTx/>
                <a:latin typeface="Calibri"/>
              </a:rPr>
              <a:t>Ａコース：　　　　　グループ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2"/>
          <p:cNvSpPr/>
          <p:nvPr/>
        </p:nvSpPr>
        <p:spPr>
          <a:xfrm>
            <a:off x="6969240" y="60480"/>
            <a:ext cx="293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事務・販売・サービス入門・初級研修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39800" y="533160"/>
            <a:ext cx="5842080" cy="533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ＱＣサークルリーダーのやるべきこと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63440" y="1341360"/>
            <a:ext cx="667080" cy="4800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imes New Roman"/>
              </a:rPr>
              <a:t>自分達の思い描くサークルリーダーになるために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108080" y="1798560"/>
            <a:ext cx="2039760" cy="45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5"/>
          <p:cNvSpPr/>
          <p:nvPr/>
        </p:nvSpPr>
        <p:spPr>
          <a:xfrm>
            <a:off x="954000" y="2027160"/>
            <a:ext cx="0" cy="352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6"/>
          <p:cNvSpPr/>
          <p:nvPr/>
        </p:nvSpPr>
        <p:spPr>
          <a:xfrm>
            <a:off x="749160" y="3855960"/>
            <a:ext cx="40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7"/>
          <p:cNvSpPr/>
          <p:nvPr/>
        </p:nvSpPr>
        <p:spPr>
          <a:xfrm>
            <a:off x="3147840" y="2027160"/>
            <a:ext cx="206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8"/>
          <p:cNvSpPr/>
          <p:nvPr/>
        </p:nvSpPr>
        <p:spPr>
          <a:xfrm>
            <a:off x="952560" y="2025720"/>
            <a:ext cx="16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9"/>
          <p:cNvSpPr/>
          <p:nvPr/>
        </p:nvSpPr>
        <p:spPr>
          <a:xfrm>
            <a:off x="966960" y="5565600"/>
            <a:ext cx="16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1125360" y="3627360"/>
            <a:ext cx="1981440" cy="453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1095480" y="5262480"/>
            <a:ext cx="2038320" cy="542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3100320" y="3900600"/>
            <a:ext cx="206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3"/>
          <p:cNvSpPr/>
          <p:nvPr/>
        </p:nvSpPr>
        <p:spPr>
          <a:xfrm>
            <a:off x="3141720" y="556092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12"/>
          <p:cNvSpPr/>
          <p:nvPr/>
        </p:nvSpPr>
        <p:spPr>
          <a:xfrm>
            <a:off x="-33480" y="7128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Ａコース　ＧＤ記録用紙（発表資料４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3"/>
          <p:cNvSpPr/>
          <p:nvPr/>
        </p:nvSpPr>
        <p:spPr>
          <a:xfrm>
            <a:off x="7561440" y="304920"/>
            <a:ext cx="23209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500" spc="-1" strike="noStrike" u="sng">
                <a:solidFill>
                  <a:srgbClr val="000000"/>
                </a:solidFill>
                <a:uFillTx/>
                <a:latin typeface="Calibri"/>
              </a:rPr>
              <a:t>Ａコース：　　　　　グループ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12"/>
          <p:cNvSpPr/>
          <p:nvPr/>
        </p:nvSpPr>
        <p:spPr>
          <a:xfrm>
            <a:off x="7184880" y="60480"/>
            <a:ext cx="272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事務・販売サービス入門・初級研修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457200"/>
            <a:ext cx="478800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600" spc="-1" strike="noStrike">
                <a:solidFill>
                  <a:srgbClr val="000000"/>
                </a:solidFill>
                <a:latin typeface="Times New Roman"/>
              </a:rPr>
              <a:t>リーダーとしての心得３カ条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304920" y="1447920"/>
            <a:ext cx="17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第　１　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304920" y="3213000"/>
            <a:ext cx="17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第　２　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331920" y="4876920"/>
            <a:ext cx="17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第　３　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28600" y="1371600"/>
            <a:ext cx="464832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5048280" y="1004760"/>
            <a:ext cx="40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Times New Roman"/>
              </a:rPr>
              <a:t>決意表明（メンバー全員が記入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5105520" y="1371600"/>
            <a:ext cx="457200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12"/>
          <p:cNvSpPr/>
          <p:nvPr/>
        </p:nvSpPr>
        <p:spPr>
          <a:xfrm>
            <a:off x="-50760" y="76320"/>
            <a:ext cx="26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Ａコース　ＧＤ記録用紙（発表資料５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3"/>
          <p:cNvSpPr/>
          <p:nvPr/>
        </p:nvSpPr>
        <p:spPr>
          <a:xfrm>
            <a:off x="7486560" y="307800"/>
            <a:ext cx="23209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500" spc="-1" strike="noStrike" u="sng">
                <a:solidFill>
                  <a:srgbClr val="000000"/>
                </a:solidFill>
                <a:uFillTx/>
                <a:latin typeface="Calibri"/>
              </a:rPr>
              <a:t>Ａコース：　　　　　グループ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12"/>
          <p:cNvSpPr/>
          <p:nvPr/>
        </p:nvSpPr>
        <p:spPr>
          <a:xfrm>
            <a:off x="7040520" y="60480"/>
            <a:ext cx="28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事務・販売・サービス入門・初級研修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8160" y="379440"/>
            <a:ext cx="56134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HGS創英角ｺﾞｼｯｸUB"/>
              </a:rPr>
              <a:t>ＱＣサークルリーダーとしての私の行動計画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28520" y="838080"/>
          <a:ext cx="9696600" cy="5791320"/>
        </p:xfrm>
        <a:graphic>
          <a:graphicData uri="http://schemas.openxmlformats.org/drawingml/2006/table">
            <a:tbl>
              <a:tblPr/>
              <a:tblGrid>
                <a:gridCol w="304920"/>
                <a:gridCol w="838080"/>
                <a:gridCol w="1067040"/>
                <a:gridCol w="182520"/>
                <a:gridCol w="2077920"/>
                <a:gridCol w="1320840"/>
                <a:gridCol w="563400"/>
                <a:gridCol w="1417680"/>
                <a:gridCol w="457200"/>
                <a:gridCol w="1467000"/>
              </a:tblGrid>
              <a:tr h="65520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会社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所　属</a:t>
                      </a:r>
                      <a:br>
                        <a:rPr sz="1100"/>
                      </a:b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氏名</a:t>
                      </a:r>
                      <a:br>
                        <a:rPr sz="1300"/>
                      </a:b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成場所</a:t>
                      </a:r>
                      <a:br>
                        <a:rPr sz="1300"/>
                      </a:b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刈谷市産業振興センタ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成年月日</a:t>
                      </a:r>
                      <a:br>
                        <a:rPr sz="1300"/>
                      </a:br>
                      <a:r>
                        <a:rPr b="1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　　　年　　月　　 日（　 ）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480">
                <a:tc gridSpan="10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私の決意表明</a:t>
                      </a:r>
                      <a:br>
                        <a:rPr sz="13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リーダーとしての心得３カ条などから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92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今後やるべきこと</a:t>
                      </a:r>
                      <a:br>
                        <a:rPr sz="13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２～３項目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実施項目</a:t>
                      </a:r>
                      <a:br>
                        <a:rPr sz="13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自分で何をするのか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具体的方法</a:t>
                      </a:r>
                      <a:br>
                        <a:rPr sz="13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どのような方法でやるのか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活動期間</a:t>
                      </a:r>
                      <a:br>
                        <a:rPr sz="13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いつから、いつまで、回数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完了時点の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己評価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7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③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92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上司</a:t>
                      </a:r>
                      <a:br>
                        <a:rPr sz="1000"/>
                      </a:b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アドバイ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計画時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完了時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3" name="Text Box 60"/>
          <p:cNvSpPr/>
          <p:nvPr/>
        </p:nvSpPr>
        <p:spPr>
          <a:xfrm>
            <a:off x="101520" y="6613560"/>
            <a:ext cx="4394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【経路】本人⇒研修会事務局⇒各社事務局⇒上司⇒本人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7616880" y="363600"/>
            <a:ext cx="22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Times New Roman"/>
              </a:rPr>
              <a:t>Ａコース：　　　　　グループ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12"/>
          <p:cNvSpPr/>
          <p:nvPr/>
        </p:nvSpPr>
        <p:spPr>
          <a:xfrm>
            <a:off x="7113600" y="60480"/>
            <a:ext cx="279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事務・販売・サービス入門・初級研修会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6T09:17:19Z</dcterms:created>
  <dc:creator>wh21913</dc:creator>
  <dc:description/>
  <dc:language>en-US</dc:language>
  <cp:lastModifiedBy>Asahara Tetsuo／朝原　哲夫／AKK</cp:lastModifiedBy>
  <cp:lastPrinted>2021-03-31T07:06:09Z</cp:lastPrinted>
  <dcterms:modified xsi:type="dcterms:W3CDTF">2024-04-23T00:36:28Z</dcterms:modified>
  <cp:revision>165</cp:revision>
  <dc:subject/>
  <dc:title>PowerPoint プレゼンテーション</dc:title>
</cp:coreProperties>
</file>