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1C7-3B43-4BBD-A147-2EBE5186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3F7-8CCD-47CF-99C5-4090724D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31DE0-FFA6-4AAF-B381-5108730A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7591F-C2BC-4D50-96B3-099253B2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49998-6E3E-4690-A722-911EE554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2C9C3-785B-4D0A-A9B5-3DBE8497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54E41-7CCB-456B-B8AE-883E039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760C5-45E1-4EB6-AECB-8F90E90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15401-0DB3-4B6A-9606-B1729219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8AA9C-76FB-41E2-B21F-32B728C1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BE338-549A-4AC6-8A58-D37F0088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5FAE7-AD13-48D9-90DE-9BD026A7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D67-DA10-400C-B72E-3700C7DD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E807D-7022-431C-B56A-6937AE68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02197-5E2D-419D-A204-FBE2AF31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02EC4-56E3-4D66-A4A9-08F4D038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74CB6-1013-4DB5-8B41-587543D1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15AEC-22F1-4D3B-90B8-29050362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2A68B-E21E-46B9-8A24-1917F643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8116F-F3D1-41FD-A3E3-C2E0245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08AD9-815E-4BA5-B908-435CB2C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83E72-050C-4317-93AC-568A84B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E6C96-3F0E-4299-BF18-55C936CC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4A8-66DF-4324-AD1C-7302F571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63FBF-E986-4FD2-A2A3-311688EB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9AC72-4DDA-40DF-ADDA-0A401C2F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F5E4-1BB7-4F95-A4BA-8ABB71E5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AD1CB-B3FD-4FCC-90DA-4E5E1BA2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BBB01-4FDC-427C-874A-5BC0C3B9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F7422-0CE9-4539-9683-924C10E7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19263-00FD-4258-B759-C5685B8D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4B5D9-6720-442B-872D-4CF6105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45C58-3F20-49AF-8D5C-27F24C4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2789E-5AE6-4ED8-A1A4-5C34A9A9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84C-41EA-4C2B-AE20-2975F18B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AEA85-67EF-460E-AEA2-D404221D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94A5A-E10A-4A19-84A1-50313E47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B5546-911C-46D8-A25E-8341AA57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0F030-EC71-4D60-AA45-7CB4E32C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9E23E-83CB-491F-A90D-24997B12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23362-17CF-470E-B3F0-4747A722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B6C2E-C66E-4A8F-9BE1-8C1A3885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17C80-966B-4FDE-94B7-9EC3F9BF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9077A-F600-4A43-8DF2-82820951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D039C-E136-44C4-80DB-372D4606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753-0370-42E0-94C4-666508D1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685E4-F855-4F36-A0F8-29643BF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95830-A75F-4D83-8F44-A0C3434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E298E-F90F-4F3B-A2F8-34FAAEB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D4E02-1ABF-46A0-A75B-4B6FDA2D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2091F-3AF6-44A0-830A-3A6864C2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31A09-DD71-49F4-A5EF-060A7CB6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AF278-0B4C-4430-BF37-7C3009AF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586ED-E6F9-45B4-AD5B-084F54F8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361DF-FC1A-4286-B76F-A73C94E8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15C72-7181-4C2C-A546-5F3D6207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D4F8-F0DD-4715-B9BD-34472A21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269F9-9EAC-4101-BFE8-F79692DD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559BB-F5F3-40BF-AD7D-18A0161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C73ED-CD24-4423-8D8A-769B034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DD0FC-1679-4B5A-92A8-1C3CC54D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B3530-AC44-486B-827F-9ECD4B40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7C385-C8C0-4B22-8EF0-FFF9E037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108B4-AB88-450E-852B-0695713C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EC2E1-4D83-4EB7-973C-1DA2A82D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69FC9-6F1A-448B-9094-74D0F2C2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4E8C3-6A4E-4E8F-AD36-03175428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DDE5-439B-4C37-AF0A-634FAD2F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3113B-B910-4ADD-86F7-78578834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D5F83-65FA-4E21-9456-DAFB7826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B92B0-91EC-442E-9203-2B7D881C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87BFF-BE32-4117-BF3F-8CFD4DB6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081E6-5A64-4B5B-A92C-D5B9DE1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BD991-CBA9-4289-9D3A-97CED90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0E0CD-4DD7-4DBC-A984-9EA18D49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233D5-CEC1-4BBD-B13D-E01EEB13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6FC8B-E74E-4E99-B12A-BDBAFB94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937A-2FE5-402D-88D9-C42973F6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A012-6E68-43E9-84D3-17E570EF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6A14-7808-4918-BCFE-FA3FF8C6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214-1738-4754-BFFE-3A7824A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BD41-7F5D-42FA-8A1D-563081B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EA65-D8F1-4248-9158-307634AB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F0C-CB5B-47E5-8989-C90AA252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0B28-B154-45B7-89CB-2DE465AE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89F-8CB8-4E2F-995A-CD9A9D01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173C-8744-4A8A-8D90-7F31CE0D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A16E-69B1-4E1A-842A-860B195E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074D-922C-409C-88BF-060616D7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7BD7-EB45-47D0-B80B-D627C5F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CB76-D7E2-42F3-95FE-88B0E7C5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49C-E10E-400D-AB14-536CF9D9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3688-4D9C-4524-9826-80BCC6AD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5765-735F-4D5F-A824-C92AF27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ED98-D023-4E62-997B-13F6B7D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9687-6888-43E9-9192-5D67EC8F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DB24-91ED-42A9-B89F-A2F9760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1647-9423-4975-8857-4171C08C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CC32-98D5-465C-B49A-E6B10F49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EFF1-3547-4617-AC51-B2C2C389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C9A56-6A43-4BEC-95CF-AC290119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71A8-5516-4974-9036-D634C492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323-2A74-4928-A654-01EF1FA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DB36F-594C-4772-ACE9-D7524861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43E4-F69D-470A-A02D-8F14CDFF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324F-5ECD-4D2A-BFFB-8B35B9EB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79FE-DDFD-40C7-B692-1EC65E1D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459A-D0B0-4251-8616-E1F9FE5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15C8-3409-4300-8592-353EFE8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40CF-166F-49A7-84CA-3C19C508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5411-F192-4A34-8610-0A3738A0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75EB-5B98-4F0B-AD6C-56F872E2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3DF8-0000-4BAB-BCF3-B55664E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78A-62F5-4A0C-9492-2619AFF1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73A2-16E9-4405-A04D-7DEC7560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CBBA-3373-4431-AD6C-771C2F7B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2296-7521-41DD-8046-015D736E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794D-8202-4D21-832C-04342E3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99C0C-B75F-4B2D-BF77-629ED601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61B97-07BC-4151-8AB2-DD39C28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FABF-16DE-43DB-854C-D7C3110E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7E71-721B-4004-96EF-5A574325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7E80-CA19-4043-AA25-B729B5F3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140D-541E-4986-A643-B546B7F6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6D6-AF17-40C4-A149-20C9E331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7C7F-9572-4800-A188-3207CAB9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4DFE1-1249-485F-8A11-F185045A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8D9C-4CC8-4AC7-B608-1930070F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4EF3F-EB20-4C14-B175-F802A577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7353-A1FF-4EDF-AE78-69909982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51256-3F86-43EE-BA7D-C02F7F1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5DE02-838C-4F26-909A-CD661713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EA91-43EA-474F-A3FB-4BC8CD4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0121A-DB12-487B-8D68-CCE9D67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BC50-8439-403A-916F-1FD56353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739-9EE4-497F-A43C-2D8C962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C8D23-941D-480C-A1C4-739329C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9A95-039C-41DC-8FED-325F87EE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145BD-3C3C-4F4D-BE53-B0631E8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1DA1-6463-40DA-8BC1-A58FAFB2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967F-09A4-490F-90AC-A86636F1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2B5A8-FD83-46A2-A42C-9ECD44AF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DF10-C81E-4906-AF0B-49E1D6B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ED65-CE92-402E-90CE-007B043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220A9-D4E2-41B3-8844-48ED197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B59B-1E86-4AB6-A349-96E69EC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0F2-7DC3-44EC-90FE-6435DC57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28B9-9AF4-4A4C-B837-36648B9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46DFB-0863-491F-BE40-6C1A60D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0A834-E65D-4694-95A7-25AC36E4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A6C9-9A6B-4AB0-B53F-8C5709C0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D2054-6B5D-4568-B48D-2CD39D4B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B3271-3DC2-43FD-87A4-A101EAA3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2EE79-9E77-4706-A0F7-1DD1F16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E1EF-0FB3-416F-A7FE-F4729314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89989-FB2F-4D89-9DB6-D973E39D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56083-9C51-43D5-857B-B974EFF9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FCB-86AF-4B3A-A8F6-A1F7F90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54AB-2083-4F2E-9255-17045BE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B9F12-988C-44B6-8E56-EFAEF145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C198A-2DED-4675-81B1-D36E26D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79CEA-ABA0-4CE3-B007-86B7147D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68F65-EA58-46EC-8699-BA5FF23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E40E7-FC7A-48AF-8D7A-36D00275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95A98-17D0-4E99-B245-29AF7733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6D7CD-D07E-4D6B-886E-EA2BFFD7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E2054-1F3C-4F2F-BBF1-AF75461C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90788-FD7F-4AF6-8609-C479A7D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9E3B-5604-4675-BB43-7700D2BD4586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1418-27CF-42CD-B01A-E9B8B3FF5FC9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417F-8DF2-468E-A6F1-8D9CCDBB30B2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3B72-0922-4289-BDFA-513144A98651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4DC3-006A-4D78-BFAB-DA50B42A8C18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7F5A-3884-4A53-A273-4B42534894A0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5D69-9CFD-4674-BA39-E372539645C3}" type="slidenum"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9CF3-00FE-4948-9911-B7CF25410F1C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644-2A29-4724-AF7D-E1FAC5C30EC4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023A-4C65-4D37-8DB6-242116F2DD09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AD4F-25BB-4AE9-81DE-20C34AE3F7FA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AFE-02CC-495F-99A1-0352259A880F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1FB0-D631-4B52-AB72-848FF3F9BCF7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797-E479-488B-91C9-152CB361B6A3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12"/>
          <p:cNvSpPr/>
          <p:nvPr/>
        </p:nvSpPr>
        <p:spPr>
          <a:xfrm>
            <a:off x="200160" y="177840"/>
            <a:ext cx="24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75" name="AutoShape 113"/>
          <p:cNvSpPr/>
          <p:nvPr/>
        </p:nvSpPr>
        <p:spPr>
          <a:xfrm>
            <a:off x="150840" y="457200"/>
            <a:ext cx="884232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76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30120" y="3263760"/>
          <a:ext cx="4959360" cy="3267360"/>
        </p:xfrm>
        <a:graphic>
          <a:graphicData uri="http://schemas.openxmlformats.org/drawingml/2006/table">
            <a:tbl>
              <a:tblPr/>
              <a:tblGrid>
                <a:gridCol w="368280"/>
                <a:gridCol w="1125720"/>
                <a:gridCol w="1358640"/>
                <a:gridCol w="210672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3"/>
          <p:cNvSpPr/>
          <p:nvPr/>
        </p:nvSpPr>
        <p:spPr>
          <a:xfrm>
            <a:off x="330120" y="2857680"/>
            <a:ext cx="1546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5438880" y="3244680"/>
          <a:ext cx="3403440" cy="2529000"/>
        </p:xfrm>
        <a:graphic>
          <a:graphicData uri="http://schemas.openxmlformats.org/drawingml/2006/table">
            <a:tbl>
              <a:tblPr/>
              <a:tblGrid>
                <a:gridCol w="514080"/>
                <a:gridCol w="2305080"/>
                <a:gridCol w="58428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が積極的に発言す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で時間を守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Text Box 114"/>
          <p:cNvSpPr/>
          <p:nvPr/>
        </p:nvSpPr>
        <p:spPr>
          <a:xfrm>
            <a:off x="5913360" y="5842080"/>
            <a:ext cx="2518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1" name="Rectangle 115"/>
          <p:cNvSpPr/>
          <p:nvPr/>
        </p:nvSpPr>
        <p:spPr>
          <a:xfrm>
            <a:off x="5454720" y="2882880"/>
            <a:ext cx="26668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87280" y="488880"/>
            <a:ext cx="2252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179280" y="1022400"/>
            <a:ext cx="31226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Ｂ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6765840" y="53352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30120" y="1625760"/>
          <a:ext cx="2590920" cy="9903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Rectangle 13"/>
          <p:cNvSpPr/>
          <p:nvPr/>
        </p:nvSpPr>
        <p:spPr>
          <a:xfrm>
            <a:off x="3102120" y="765000"/>
            <a:ext cx="320040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3911760" y="635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588" name="グループ化 1"/>
          <p:cNvGrpSpPr/>
          <p:nvPr/>
        </p:nvGrpSpPr>
        <p:grpSpPr>
          <a:xfrm>
            <a:off x="6483240" y="1054080"/>
            <a:ext cx="2408400" cy="1611360"/>
            <a:chOff x="6483240" y="1054080"/>
            <a:chExt cx="2408400" cy="1611360"/>
          </a:xfrm>
        </p:grpSpPr>
        <p:sp>
          <p:nvSpPr>
            <p:cNvPr id="589" name="Rectangle 15"/>
            <p:cNvSpPr/>
            <p:nvPr/>
          </p:nvSpPr>
          <p:spPr>
            <a:xfrm>
              <a:off x="6483240" y="2117880"/>
              <a:ext cx="2393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0" name="Rectangle 16"/>
            <p:cNvSpPr/>
            <p:nvPr/>
          </p:nvSpPr>
          <p:spPr>
            <a:xfrm>
              <a:off x="6483240" y="184464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1" name="Rectangle 17"/>
            <p:cNvSpPr/>
            <p:nvPr/>
          </p:nvSpPr>
          <p:spPr>
            <a:xfrm>
              <a:off x="6498000" y="1341360"/>
              <a:ext cx="2393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2" name="Rectangle 18"/>
            <p:cNvSpPr/>
            <p:nvPr/>
          </p:nvSpPr>
          <p:spPr>
            <a:xfrm>
              <a:off x="6483240" y="105408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3" name="Line 19"/>
            <p:cNvSpPr/>
            <p:nvPr/>
          </p:nvSpPr>
          <p:spPr>
            <a:xfrm>
              <a:off x="6483240" y="105408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4" name="Line 20"/>
            <p:cNvSpPr/>
            <p:nvPr/>
          </p:nvSpPr>
          <p:spPr>
            <a:xfrm>
              <a:off x="6483240" y="132696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5" name="Line 21"/>
            <p:cNvSpPr/>
            <p:nvPr/>
          </p:nvSpPr>
          <p:spPr>
            <a:xfrm>
              <a:off x="6483240" y="184464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6" name="Line 22"/>
            <p:cNvSpPr/>
            <p:nvPr/>
          </p:nvSpPr>
          <p:spPr>
            <a:xfrm>
              <a:off x="6483240" y="211788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7" name="Line 23"/>
            <p:cNvSpPr/>
            <p:nvPr/>
          </p:nvSpPr>
          <p:spPr>
            <a:xfrm>
              <a:off x="6483240" y="266544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8" name="Line 24"/>
            <p:cNvSpPr/>
            <p:nvPr/>
          </p:nvSpPr>
          <p:spPr>
            <a:xfrm>
              <a:off x="648324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887688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1096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チェックシート（現状把握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10960" y="851040"/>
          <a:ext cx="8651880" cy="546084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サイコロの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Line 80"/>
          <p:cNvSpPr/>
          <p:nvPr/>
        </p:nvSpPr>
        <p:spPr>
          <a:xfrm>
            <a:off x="235080" y="863640"/>
            <a:ext cx="12412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3" name="Text Box 81"/>
          <p:cNvSpPr/>
          <p:nvPr/>
        </p:nvSpPr>
        <p:spPr>
          <a:xfrm>
            <a:off x="914400" y="99072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4" name="Text Box 82"/>
          <p:cNvSpPr/>
          <p:nvPr/>
        </p:nvSpPr>
        <p:spPr>
          <a:xfrm>
            <a:off x="304920" y="137160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5" name="Rectangle 83"/>
          <p:cNvSpPr/>
          <p:nvPr/>
        </p:nvSpPr>
        <p:spPr>
          <a:xfrm>
            <a:off x="6483240" y="52056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6" name="Text Box 84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２～３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00160" y="1062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8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965160" y="968400"/>
            <a:ext cx="31402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検査結果を棒グラフで表す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0" name="AutoShape 3"/>
          <p:cNvSpPr/>
          <p:nvPr/>
        </p:nvSpPr>
        <p:spPr>
          <a:xfrm>
            <a:off x="281160" y="685800"/>
            <a:ext cx="8570880" cy="59785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6367320" y="968400"/>
            <a:ext cx="1968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目標値を決める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6753240" y="3808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200160" y="1778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4" name="AutoShape 7"/>
          <p:cNvSpPr/>
          <p:nvPr/>
        </p:nvSpPr>
        <p:spPr>
          <a:xfrm>
            <a:off x="492120" y="457200"/>
            <a:ext cx="339408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現状の把握と目標設定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960480" y="1197000"/>
            <a:ext cx="1968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規格と比較する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17" name="オブジェクト 4"/>
          <p:cNvGraphicFramePr/>
          <p:nvPr/>
        </p:nvGraphicFramePr>
        <p:xfrm>
          <a:off x="492120" y="1523880"/>
          <a:ext cx="8104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オブジェクト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523880"/>
                    <a:ext cx="8104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954160" y="762120"/>
            <a:ext cx="3097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特性要因図を使って要因を絞り込む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0" name="AutoShape 3"/>
          <p:cNvSpPr/>
          <p:nvPr/>
        </p:nvSpPr>
        <p:spPr>
          <a:xfrm>
            <a:off x="150840" y="762120"/>
            <a:ext cx="8842320" cy="594504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1" name="AutoShape 4"/>
          <p:cNvSpPr/>
          <p:nvPr/>
        </p:nvSpPr>
        <p:spPr>
          <a:xfrm>
            <a:off x="561960" y="533520"/>
            <a:ext cx="234792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要因の解析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6753240" y="45720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00160" y="1778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7772400" y="1447920"/>
            <a:ext cx="914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533520" y="3886200"/>
            <a:ext cx="7162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517680" y="981000"/>
            <a:ext cx="4587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系統図法・マトリックス図法を使って対策立案、検討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50840" y="685800"/>
            <a:ext cx="8840880" cy="602136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561960" y="457200"/>
            <a:ext cx="389592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対策の立案・検討と実施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6753240" y="3556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200160" y="177840"/>
            <a:ext cx="26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4935600" y="914400"/>
            <a:ext cx="29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アイデアをたくさん出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304920" y="1676520"/>
            <a:ext cx="609480" cy="472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4" name="Rectangle 43"/>
          <p:cNvSpPr/>
          <p:nvPr/>
        </p:nvSpPr>
        <p:spPr>
          <a:xfrm>
            <a:off x="1590840" y="1295280"/>
            <a:ext cx="53316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１次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5" name="Rectangle 44"/>
          <p:cNvSpPr/>
          <p:nvPr/>
        </p:nvSpPr>
        <p:spPr>
          <a:xfrm>
            <a:off x="3059280" y="1295280"/>
            <a:ext cx="53316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２次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6" name="Line 12"/>
          <p:cNvSpPr/>
          <p:nvPr/>
        </p:nvSpPr>
        <p:spPr>
          <a:xfrm>
            <a:off x="9144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637" name="Group 13"/>
          <p:cNvGrpSpPr/>
          <p:nvPr/>
        </p:nvGrpSpPr>
        <p:grpSpPr>
          <a:xfrm>
            <a:off x="4343400" y="1066680"/>
            <a:ext cx="4572000" cy="5562360"/>
            <a:chOff x="4343400" y="1066680"/>
            <a:chExt cx="4572000" cy="5562360"/>
          </a:xfrm>
        </p:grpSpPr>
        <p:sp>
          <p:nvSpPr>
            <p:cNvPr id="638" name="Rectangle 2"/>
            <p:cNvSpPr/>
            <p:nvPr/>
          </p:nvSpPr>
          <p:spPr>
            <a:xfrm>
              <a:off x="7086600" y="1066680"/>
              <a:ext cx="167616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◎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　 ○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　△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39" name="Rectangle 21"/>
            <p:cNvSpPr/>
            <p:nvPr/>
          </p:nvSpPr>
          <p:spPr>
            <a:xfrm>
              <a:off x="4343400" y="1601640"/>
              <a:ext cx="4572000" cy="502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0" name="Line 22"/>
            <p:cNvSpPr/>
            <p:nvPr/>
          </p:nvSpPr>
          <p:spPr>
            <a:xfrm>
              <a:off x="4343400" y="205704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1" name="Line 23"/>
            <p:cNvSpPr/>
            <p:nvPr/>
          </p:nvSpPr>
          <p:spPr>
            <a:xfrm>
              <a:off x="4343400" y="25142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2" name="Line 24"/>
            <p:cNvSpPr/>
            <p:nvPr/>
          </p:nvSpPr>
          <p:spPr>
            <a:xfrm>
              <a:off x="4343400" y="29714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3" name="Line 25"/>
            <p:cNvSpPr/>
            <p:nvPr/>
          </p:nvSpPr>
          <p:spPr>
            <a:xfrm>
              <a:off x="4343400" y="3428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4" name="Line 26"/>
            <p:cNvSpPr/>
            <p:nvPr/>
          </p:nvSpPr>
          <p:spPr>
            <a:xfrm>
              <a:off x="4343400" y="38858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5" name="Line 27"/>
            <p:cNvSpPr/>
            <p:nvPr/>
          </p:nvSpPr>
          <p:spPr>
            <a:xfrm>
              <a:off x="4343400" y="43430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6" name="Line 28"/>
            <p:cNvSpPr/>
            <p:nvPr/>
          </p:nvSpPr>
          <p:spPr>
            <a:xfrm>
              <a:off x="4343400" y="48002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7" name="Line 29"/>
            <p:cNvSpPr/>
            <p:nvPr/>
          </p:nvSpPr>
          <p:spPr>
            <a:xfrm>
              <a:off x="4343400" y="52574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8" name="Line 30"/>
            <p:cNvSpPr/>
            <p:nvPr/>
          </p:nvSpPr>
          <p:spPr>
            <a:xfrm>
              <a:off x="70866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>
              <a:off x="75438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0" name="Line 32"/>
            <p:cNvSpPr/>
            <p:nvPr/>
          </p:nvSpPr>
          <p:spPr>
            <a:xfrm>
              <a:off x="80010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1" name="Line 36"/>
            <p:cNvSpPr/>
            <p:nvPr/>
          </p:nvSpPr>
          <p:spPr>
            <a:xfrm>
              <a:off x="4343400" y="5714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2" name="Line 37"/>
            <p:cNvSpPr/>
            <p:nvPr/>
          </p:nvSpPr>
          <p:spPr>
            <a:xfrm>
              <a:off x="4343400" y="61718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>
              <a:off x="8470800" y="15998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</p:grpSp>
      <p:sp>
        <p:nvSpPr>
          <p:cNvPr id="654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8720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チェックシート（効果確認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10960" y="851040"/>
          <a:ext cx="8651880" cy="538632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サイコロの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Line 79"/>
          <p:cNvSpPr/>
          <p:nvPr/>
        </p:nvSpPr>
        <p:spPr>
          <a:xfrm>
            <a:off x="222120" y="863640"/>
            <a:ext cx="1243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58" name="Text Box 80"/>
          <p:cNvSpPr/>
          <p:nvPr/>
        </p:nvSpPr>
        <p:spPr>
          <a:xfrm>
            <a:off x="879480" y="9748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59" name="Text Box 81"/>
          <p:cNvSpPr/>
          <p:nvPr/>
        </p:nvSpPr>
        <p:spPr>
          <a:xfrm>
            <a:off x="200160" y="143208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0" name="Rectangle 82"/>
          <p:cNvSpPr/>
          <p:nvPr/>
        </p:nvSpPr>
        <p:spPr>
          <a:xfrm>
            <a:off x="6753240" y="53352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1" name="Text Box 83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２～３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200160" y="76320"/>
            <a:ext cx="26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６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3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4543560" y="758880"/>
            <a:ext cx="4416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＊棒グラフで対策前と対策後の差が見えるように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　また、目標に対してどうだったのかを記入する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5" name="AutoShape 3"/>
          <p:cNvSpPr/>
          <p:nvPr/>
        </p:nvSpPr>
        <p:spPr>
          <a:xfrm>
            <a:off x="281160" y="685800"/>
            <a:ext cx="8581680" cy="602136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6" name="AutoShape 4"/>
          <p:cNvSpPr/>
          <p:nvPr/>
        </p:nvSpPr>
        <p:spPr>
          <a:xfrm>
            <a:off x="561960" y="457200"/>
            <a:ext cx="2130480" cy="533520"/>
          </a:xfrm>
          <a:prstGeom prst="roundRect">
            <a:avLst>
              <a:gd name="adj" fmla="val 2797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効果の確認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393840" y="129240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対策後のサイコロ説明】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4572000" y="1292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対策後の目標との比較】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753240" y="3808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281160" y="152280"/>
            <a:ext cx="24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７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517680" y="105264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工作図など活用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2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73" name="オブジェクト 3"/>
          <p:cNvGraphicFramePr/>
          <p:nvPr/>
        </p:nvGraphicFramePr>
        <p:xfrm>
          <a:off x="495360" y="1604880"/>
          <a:ext cx="810396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オブジェクト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604880"/>
                    <a:ext cx="81039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AutoShape 2"/>
          <p:cNvSpPr/>
          <p:nvPr/>
        </p:nvSpPr>
        <p:spPr>
          <a:xfrm>
            <a:off x="150840" y="762120"/>
            <a:ext cx="8842320" cy="594504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6" name="AutoShape 3"/>
          <p:cNvSpPr/>
          <p:nvPr/>
        </p:nvSpPr>
        <p:spPr>
          <a:xfrm>
            <a:off x="492120" y="533520"/>
            <a:ext cx="1689120" cy="45396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まとめ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4572000" y="32004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281160" y="1028880"/>
            <a:ext cx="44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1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標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準化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有効な対策を記録しておく。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何をどうする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210960" y="32637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2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活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動の評価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（研修を通して学んだことなど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4560840" y="3219480"/>
            <a:ext cx="4008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3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反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省と今後の進め方</a:t>
            </a:r>
            <a:br>
              <a:rPr sz="1600"/>
            </a:b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（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今回の研修を今後どう活かしていくかなど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141120" y="3187800"/>
            <a:ext cx="88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6753240" y="45720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281160" y="152280"/>
            <a:ext cx="26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８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21096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チェックシート（現状把握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10960" y="851040"/>
          <a:ext cx="8651880" cy="546408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鈴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i="1" lang="ja-JP" sz="2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前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i="1" lang="ja-JP" sz="2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青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佐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7" name="Line 80"/>
          <p:cNvSpPr/>
          <p:nvPr/>
        </p:nvSpPr>
        <p:spPr>
          <a:xfrm>
            <a:off x="235080" y="863640"/>
            <a:ext cx="12412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8" name="Text Box 81"/>
          <p:cNvSpPr/>
          <p:nvPr/>
        </p:nvSpPr>
        <p:spPr>
          <a:xfrm>
            <a:off x="971640" y="10526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9" name="Text Box 82"/>
          <p:cNvSpPr/>
          <p:nvPr/>
        </p:nvSpPr>
        <p:spPr>
          <a:xfrm>
            <a:off x="200160" y="148284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0" name="Rectangle 83"/>
          <p:cNvSpPr/>
          <p:nvPr/>
        </p:nvSpPr>
        <p:spPr>
          <a:xfrm>
            <a:off x="6483240" y="52056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1" name="Text Box 84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３～４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2" name="Text Box 85"/>
          <p:cNvSpPr/>
          <p:nvPr/>
        </p:nvSpPr>
        <p:spPr>
          <a:xfrm>
            <a:off x="4716360" y="260280"/>
            <a:ext cx="147636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記入例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3" name="Line 86"/>
          <p:cNvSpPr/>
          <p:nvPr/>
        </p:nvSpPr>
        <p:spPr>
          <a:xfrm flipH="1">
            <a:off x="1617840" y="213372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4" name="Line 87"/>
          <p:cNvSpPr/>
          <p:nvPr/>
        </p:nvSpPr>
        <p:spPr>
          <a:xfrm flipH="1">
            <a:off x="1547280" y="213372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5" name="Line 88"/>
          <p:cNvSpPr/>
          <p:nvPr/>
        </p:nvSpPr>
        <p:spPr>
          <a:xfrm flipH="1">
            <a:off x="1700280" y="214632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6" name="Line 89"/>
          <p:cNvSpPr/>
          <p:nvPr/>
        </p:nvSpPr>
        <p:spPr>
          <a:xfrm flipH="1">
            <a:off x="2109960" y="215892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7" name="Line 90"/>
          <p:cNvSpPr/>
          <p:nvPr/>
        </p:nvSpPr>
        <p:spPr>
          <a:xfrm>
            <a:off x="1547640" y="2171880"/>
            <a:ext cx="42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8" name="Line 91"/>
          <p:cNvSpPr/>
          <p:nvPr/>
        </p:nvSpPr>
        <p:spPr>
          <a:xfrm flipH="1">
            <a:off x="3798360" y="21718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9" name="Line 92"/>
          <p:cNvSpPr/>
          <p:nvPr/>
        </p:nvSpPr>
        <p:spPr>
          <a:xfrm flipH="1">
            <a:off x="3727440" y="2171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0" name="Line 93"/>
          <p:cNvSpPr/>
          <p:nvPr/>
        </p:nvSpPr>
        <p:spPr>
          <a:xfrm flipH="1">
            <a:off x="3879360" y="21844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1" name="Line 94"/>
          <p:cNvSpPr/>
          <p:nvPr/>
        </p:nvSpPr>
        <p:spPr>
          <a:xfrm flipH="1">
            <a:off x="396252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2" name="Line 95"/>
          <p:cNvSpPr/>
          <p:nvPr/>
        </p:nvSpPr>
        <p:spPr>
          <a:xfrm flipH="1">
            <a:off x="2883960" y="21718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3" name="Line 96"/>
          <p:cNvSpPr/>
          <p:nvPr/>
        </p:nvSpPr>
        <p:spPr>
          <a:xfrm flipH="1">
            <a:off x="2813040" y="2171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4" name="Line 97"/>
          <p:cNvSpPr/>
          <p:nvPr/>
        </p:nvSpPr>
        <p:spPr>
          <a:xfrm flipH="1">
            <a:off x="2964960" y="21844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5" name="Line 98"/>
          <p:cNvSpPr/>
          <p:nvPr/>
        </p:nvSpPr>
        <p:spPr>
          <a:xfrm flipH="1">
            <a:off x="304812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6" name="Line 99"/>
          <p:cNvSpPr/>
          <p:nvPr/>
        </p:nvSpPr>
        <p:spPr>
          <a:xfrm flipH="1">
            <a:off x="392760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7" name="Line 100"/>
          <p:cNvSpPr/>
          <p:nvPr/>
        </p:nvSpPr>
        <p:spPr>
          <a:xfrm flipH="1">
            <a:off x="385776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8" name="Line 101"/>
          <p:cNvSpPr/>
          <p:nvPr/>
        </p:nvSpPr>
        <p:spPr>
          <a:xfrm flipH="1">
            <a:off x="4010040" y="28954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9" name="Line 102"/>
          <p:cNvSpPr/>
          <p:nvPr/>
        </p:nvSpPr>
        <p:spPr>
          <a:xfrm flipH="1">
            <a:off x="4091040" y="290844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0" name="Line 103"/>
          <p:cNvSpPr/>
          <p:nvPr/>
        </p:nvSpPr>
        <p:spPr>
          <a:xfrm flipH="1">
            <a:off x="4853160" y="28576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1" name="Line 104"/>
          <p:cNvSpPr/>
          <p:nvPr/>
        </p:nvSpPr>
        <p:spPr>
          <a:xfrm flipH="1">
            <a:off x="47826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2" name="Line 105"/>
          <p:cNvSpPr/>
          <p:nvPr/>
        </p:nvSpPr>
        <p:spPr>
          <a:xfrm flipH="1">
            <a:off x="4935600" y="28702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3" name="Line 106"/>
          <p:cNvSpPr/>
          <p:nvPr/>
        </p:nvSpPr>
        <p:spPr>
          <a:xfrm flipH="1">
            <a:off x="501804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4" name="Line 107"/>
          <p:cNvSpPr/>
          <p:nvPr/>
        </p:nvSpPr>
        <p:spPr>
          <a:xfrm flipH="1">
            <a:off x="491184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5" name="Line 108"/>
          <p:cNvSpPr/>
          <p:nvPr/>
        </p:nvSpPr>
        <p:spPr>
          <a:xfrm flipH="1">
            <a:off x="4842000" y="21970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6" name="Line 109"/>
          <p:cNvSpPr/>
          <p:nvPr/>
        </p:nvSpPr>
        <p:spPr>
          <a:xfrm flipH="1">
            <a:off x="4994280" y="22096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7" name="Line 110"/>
          <p:cNvSpPr/>
          <p:nvPr/>
        </p:nvSpPr>
        <p:spPr>
          <a:xfrm flipH="1">
            <a:off x="6036840" y="2197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8" name="Line 111"/>
          <p:cNvSpPr/>
          <p:nvPr/>
        </p:nvSpPr>
        <p:spPr>
          <a:xfrm flipH="1">
            <a:off x="5967360" y="21970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9" name="Line 112"/>
          <p:cNvSpPr/>
          <p:nvPr/>
        </p:nvSpPr>
        <p:spPr>
          <a:xfrm flipH="1">
            <a:off x="6119280" y="2209680"/>
            <a:ext cx="14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0" name="Line 113"/>
          <p:cNvSpPr/>
          <p:nvPr/>
        </p:nvSpPr>
        <p:spPr>
          <a:xfrm flipH="1">
            <a:off x="6200280" y="222264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1" name="Line 114"/>
          <p:cNvSpPr/>
          <p:nvPr/>
        </p:nvSpPr>
        <p:spPr>
          <a:xfrm flipH="1">
            <a:off x="7162920" y="212076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2" name="Line 115"/>
          <p:cNvSpPr/>
          <p:nvPr/>
        </p:nvSpPr>
        <p:spPr>
          <a:xfrm flipH="1">
            <a:off x="7093080" y="212076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3" name="Line 116"/>
          <p:cNvSpPr/>
          <p:nvPr/>
        </p:nvSpPr>
        <p:spPr>
          <a:xfrm flipH="1">
            <a:off x="7245360" y="213372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4" name="Line 117"/>
          <p:cNvSpPr/>
          <p:nvPr/>
        </p:nvSpPr>
        <p:spPr>
          <a:xfrm flipH="1">
            <a:off x="7174080" y="27813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5" name="Line 118"/>
          <p:cNvSpPr/>
          <p:nvPr/>
        </p:nvSpPr>
        <p:spPr>
          <a:xfrm flipH="1">
            <a:off x="7104240" y="27813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6" name="Line 119"/>
          <p:cNvSpPr/>
          <p:nvPr/>
        </p:nvSpPr>
        <p:spPr>
          <a:xfrm flipH="1">
            <a:off x="7256520" y="27939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7" name="Line 120"/>
          <p:cNvSpPr/>
          <p:nvPr/>
        </p:nvSpPr>
        <p:spPr>
          <a:xfrm flipH="1">
            <a:off x="611928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8" name="Line 121"/>
          <p:cNvSpPr/>
          <p:nvPr/>
        </p:nvSpPr>
        <p:spPr>
          <a:xfrm flipH="1">
            <a:off x="60480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9" name="Line 122"/>
          <p:cNvSpPr/>
          <p:nvPr/>
        </p:nvSpPr>
        <p:spPr>
          <a:xfrm flipH="1">
            <a:off x="6200280" y="28702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0" name="Line 123"/>
          <p:cNvSpPr/>
          <p:nvPr/>
        </p:nvSpPr>
        <p:spPr>
          <a:xfrm flipH="1">
            <a:off x="4994280" y="36957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1" name="Line 124"/>
          <p:cNvSpPr/>
          <p:nvPr/>
        </p:nvSpPr>
        <p:spPr>
          <a:xfrm flipH="1">
            <a:off x="4924440" y="36957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2" name="Line 125"/>
          <p:cNvSpPr/>
          <p:nvPr/>
        </p:nvSpPr>
        <p:spPr>
          <a:xfrm flipH="1">
            <a:off x="5076720" y="37083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3" name="Line 126"/>
          <p:cNvSpPr/>
          <p:nvPr/>
        </p:nvSpPr>
        <p:spPr>
          <a:xfrm flipH="1">
            <a:off x="393876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4" name="Line 127"/>
          <p:cNvSpPr/>
          <p:nvPr/>
        </p:nvSpPr>
        <p:spPr>
          <a:xfrm flipH="1">
            <a:off x="3868200" y="36194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5" name="Line 128"/>
          <p:cNvSpPr/>
          <p:nvPr/>
        </p:nvSpPr>
        <p:spPr>
          <a:xfrm flipH="1">
            <a:off x="4021200" y="36320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6" name="Line 129"/>
          <p:cNvSpPr/>
          <p:nvPr/>
        </p:nvSpPr>
        <p:spPr>
          <a:xfrm flipH="1">
            <a:off x="29538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7" name="Line 130"/>
          <p:cNvSpPr/>
          <p:nvPr/>
        </p:nvSpPr>
        <p:spPr>
          <a:xfrm flipH="1">
            <a:off x="288396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8" name="Line 131"/>
          <p:cNvSpPr/>
          <p:nvPr/>
        </p:nvSpPr>
        <p:spPr>
          <a:xfrm flipH="1">
            <a:off x="3036960" y="28702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9" name="Line 132"/>
          <p:cNvSpPr/>
          <p:nvPr/>
        </p:nvSpPr>
        <p:spPr>
          <a:xfrm flipH="1">
            <a:off x="3117960" y="2882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0" name="Line 133"/>
          <p:cNvSpPr/>
          <p:nvPr/>
        </p:nvSpPr>
        <p:spPr>
          <a:xfrm>
            <a:off x="2884320" y="2895480"/>
            <a:ext cx="420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1" name="Line 134"/>
          <p:cNvSpPr/>
          <p:nvPr/>
        </p:nvSpPr>
        <p:spPr>
          <a:xfrm flipH="1">
            <a:off x="15822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2" name="Line 135"/>
          <p:cNvSpPr/>
          <p:nvPr/>
        </p:nvSpPr>
        <p:spPr>
          <a:xfrm flipH="1">
            <a:off x="151236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3" name="Line 136"/>
          <p:cNvSpPr/>
          <p:nvPr/>
        </p:nvSpPr>
        <p:spPr>
          <a:xfrm flipH="1">
            <a:off x="1665360" y="28702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4" name="Line 137"/>
          <p:cNvSpPr/>
          <p:nvPr/>
        </p:nvSpPr>
        <p:spPr>
          <a:xfrm flipH="1">
            <a:off x="1746360" y="2882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5" name="Line 138"/>
          <p:cNvSpPr/>
          <p:nvPr/>
        </p:nvSpPr>
        <p:spPr>
          <a:xfrm>
            <a:off x="1512720" y="2895480"/>
            <a:ext cx="420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6" name="Line 139"/>
          <p:cNvSpPr/>
          <p:nvPr/>
        </p:nvSpPr>
        <p:spPr>
          <a:xfrm flipH="1">
            <a:off x="159336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7" name="Line 140"/>
          <p:cNvSpPr/>
          <p:nvPr/>
        </p:nvSpPr>
        <p:spPr>
          <a:xfrm flipH="1">
            <a:off x="152352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8" name="Line 141"/>
          <p:cNvSpPr/>
          <p:nvPr/>
        </p:nvSpPr>
        <p:spPr>
          <a:xfrm flipH="1">
            <a:off x="1676520" y="35686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9" name="Line 142"/>
          <p:cNvSpPr/>
          <p:nvPr/>
        </p:nvSpPr>
        <p:spPr>
          <a:xfrm flipH="1">
            <a:off x="1758960" y="35812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0" name="Line 143"/>
          <p:cNvSpPr/>
          <p:nvPr/>
        </p:nvSpPr>
        <p:spPr>
          <a:xfrm flipH="1">
            <a:off x="6048000" y="36194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1" name="Line 144"/>
          <p:cNvSpPr/>
          <p:nvPr/>
        </p:nvSpPr>
        <p:spPr>
          <a:xfrm flipH="1">
            <a:off x="597852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2" name="Line 145"/>
          <p:cNvSpPr/>
          <p:nvPr/>
        </p:nvSpPr>
        <p:spPr>
          <a:xfrm flipH="1">
            <a:off x="6130440" y="36320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3" name="Line 146"/>
          <p:cNvSpPr/>
          <p:nvPr/>
        </p:nvSpPr>
        <p:spPr>
          <a:xfrm flipH="1">
            <a:off x="710424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4" name="Line 147"/>
          <p:cNvSpPr/>
          <p:nvPr/>
        </p:nvSpPr>
        <p:spPr>
          <a:xfrm flipH="1">
            <a:off x="7033680" y="3619440"/>
            <a:ext cx="14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5" name="Line 148"/>
          <p:cNvSpPr/>
          <p:nvPr/>
        </p:nvSpPr>
        <p:spPr>
          <a:xfrm flipH="1">
            <a:off x="2883960" y="35434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6" name="Line 149"/>
          <p:cNvSpPr/>
          <p:nvPr/>
        </p:nvSpPr>
        <p:spPr>
          <a:xfrm flipH="1">
            <a:off x="2813040" y="35434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7" name="Line 150"/>
          <p:cNvSpPr/>
          <p:nvPr/>
        </p:nvSpPr>
        <p:spPr>
          <a:xfrm flipH="1">
            <a:off x="296496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8" name="Line 151"/>
          <p:cNvSpPr/>
          <p:nvPr/>
        </p:nvSpPr>
        <p:spPr>
          <a:xfrm flipH="1">
            <a:off x="219240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9" name="Line 152"/>
          <p:cNvSpPr/>
          <p:nvPr/>
        </p:nvSpPr>
        <p:spPr>
          <a:xfrm flipH="1">
            <a:off x="1805040" y="215892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0" name="Line 153"/>
          <p:cNvSpPr/>
          <p:nvPr/>
        </p:nvSpPr>
        <p:spPr>
          <a:xfrm flipH="1">
            <a:off x="2085480" y="28828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1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2:24:24Z</dcterms:created>
  <dc:creator>FJ-USER</dc:creator>
  <dc:description/>
  <dc:language>en-US</dc:language>
  <cp:lastModifiedBy>Windowsユーザー</cp:lastModifiedBy>
  <cp:lastPrinted>2024-11-08T00:30:33Z</cp:lastPrinted>
  <dcterms:modified xsi:type="dcterms:W3CDTF">2025-04-30T05:21:34Z</dcterms:modified>
  <cp:revision>55</cp:revision>
  <dc:subject/>
  <dc:title>PowerPoint プレゼンテーション</dc:title>
</cp:coreProperties>
</file>