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411-266D-445E-9368-A5E51952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D75-8459-4769-B7F6-8B36EDB4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0AFC-6381-4A18-BD36-4871F7C7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BF5-F3D5-41A9-9B32-8FA23D65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281-2370-4A06-89F8-28E96A6E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712-2651-4640-8DCB-051F662A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ACE-F2D9-4330-B28D-12B00E4C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B92-B69F-417B-B5AB-7183F375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C07-CDC1-48BC-9146-341D7422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171-8F88-4262-A827-C8379AC7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CE8-CEB1-40D3-BEFB-466F2839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B20-DC06-491D-9803-DEF1A5F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767676"/>
                </a:solidFill>
                <a:latin typeface="Aptos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0D44D-A1A2-4349-A8ED-B1268F24E725}" type="slidenum">
              <a:rPr b="0" lang="en-US" sz="1200" spc="-1" strike="noStrike">
                <a:solidFill>
                  <a:srgbClr val="767676"/>
                </a:solidFill>
                <a:latin typeface="Aptos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7" descr=""/>
          <p:cNvPicPr/>
          <p:nvPr/>
        </p:nvPicPr>
        <p:blipFill>
          <a:blip r:embed="rId1"/>
          <a:stretch/>
        </p:blipFill>
        <p:spPr>
          <a:xfrm>
            <a:off x="4395960" y="2276640"/>
            <a:ext cx="3400200" cy="340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4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新</a:t>
            </a:r>
            <a:r>
              <a:rPr b="1" i="1" lang="en-US" sz="4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QC7</a:t>
            </a:r>
            <a:r>
              <a:rPr b="1" i="1" lang="ja-JP" sz="4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道具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親和図法とは・・・</a:t>
            </a:r>
            <a:endParaRPr b="0" lang="en-US" sz="36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" name="コンテンツ プレースホルダー 2"/>
          <p:cNvSpPr/>
          <p:nvPr/>
        </p:nvSpPr>
        <p:spPr>
          <a:xfrm>
            <a:off x="3287880" y="5950080"/>
            <a:ext cx="822960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QC</a:t>
            </a:r>
            <a:r>
              <a:rPr b="1" i="1" lang="ja-JP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クル東海支部　愛知地区</a:t>
            </a:r>
            <a:endParaRPr b="0" lang="en-US" sz="36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1311120" y="4118040"/>
            <a:ext cx="5927040" cy="2402280"/>
            <a:chOff x="1311120" y="4118040"/>
            <a:chExt cx="5927040" cy="2402280"/>
          </a:xfrm>
        </p:grpSpPr>
        <p:sp>
          <p:nvSpPr>
            <p:cNvPr id="257" name="Rectangle 17"/>
            <p:cNvSpPr/>
            <p:nvPr/>
          </p:nvSpPr>
          <p:spPr>
            <a:xfrm>
              <a:off x="1646280" y="4649400"/>
              <a:ext cx="5254920" cy="177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737360" y="4915080"/>
              <a:ext cx="2489760" cy="13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59" name="Rectangle 19"/>
            <p:cNvSpPr/>
            <p:nvPr/>
          </p:nvSpPr>
          <p:spPr>
            <a:xfrm>
              <a:off x="2383920" y="4738320"/>
              <a:ext cx="1105560" cy="26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親和カード</a:t>
              </a:r>
              <a:endParaRPr b="0" lang="en-US" sz="14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60" name="Rectangle 20"/>
            <p:cNvSpPr/>
            <p:nvPr/>
          </p:nvSpPr>
          <p:spPr>
            <a:xfrm>
              <a:off x="1921680" y="5446800"/>
              <a:ext cx="923760" cy="26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データカード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61" name="Rectangle 21"/>
            <p:cNvSpPr/>
            <p:nvPr/>
          </p:nvSpPr>
          <p:spPr>
            <a:xfrm>
              <a:off x="1921680" y="5801400"/>
              <a:ext cx="923760" cy="26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データカード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62" name="Rectangle 22"/>
            <p:cNvSpPr/>
            <p:nvPr/>
          </p:nvSpPr>
          <p:spPr>
            <a:xfrm>
              <a:off x="3121200" y="5446800"/>
              <a:ext cx="921240" cy="26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データカード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1830600" y="5269680"/>
              <a:ext cx="1106280" cy="885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3121200" y="5801400"/>
              <a:ext cx="921240" cy="26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データカード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3030120" y="5269680"/>
              <a:ext cx="1106280" cy="885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66" name="Rectangle 26"/>
            <p:cNvSpPr/>
            <p:nvPr/>
          </p:nvSpPr>
          <p:spPr>
            <a:xfrm>
              <a:off x="1921680" y="5092200"/>
              <a:ext cx="923760" cy="26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親和カード</a:t>
              </a:r>
              <a:endParaRPr b="0" lang="en-US" sz="14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3121200" y="5092200"/>
              <a:ext cx="921240" cy="26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親和カード</a:t>
              </a:r>
              <a:endParaRPr b="0" lang="en-US" sz="14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4505040" y="4915080"/>
              <a:ext cx="2305080" cy="13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5058000" y="4738320"/>
              <a:ext cx="1106280" cy="26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親和カード</a:t>
              </a:r>
              <a:endParaRPr b="0" lang="en-US" sz="14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4689360" y="5446800"/>
              <a:ext cx="921960" cy="26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データカード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4689360" y="5801400"/>
              <a:ext cx="921960" cy="26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データカード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5795640" y="5358240"/>
              <a:ext cx="921240" cy="35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データカード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73" name="Rectangle 33"/>
            <p:cNvSpPr/>
            <p:nvPr/>
          </p:nvSpPr>
          <p:spPr>
            <a:xfrm>
              <a:off x="4596120" y="5269680"/>
              <a:ext cx="1105560" cy="885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74" name="Rectangle 34"/>
            <p:cNvSpPr/>
            <p:nvPr/>
          </p:nvSpPr>
          <p:spPr>
            <a:xfrm>
              <a:off x="4689360" y="5092200"/>
              <a:ext cx="921960" cy="26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親和カード</a:t>
              </a:r>
              <a:endParaRPr b="0" lang="en-US" sz="14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75" name="Rectangle 35"/>
            <p:cNvSpPr/>
            <p:nvPr/>
          </p:nvSpPr>
          <p:spPr>
            <a:xfrm>
              <a:off x="3674160" y="4472280"/>
              <a:ext cx="1199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親和カード</a:t>
              </a:r>
              <a:endParaRPr b="0" lang="en-US" sz="16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76" name="Rectangle 36"/>
            <p:cNvSpPr/>
            <p:nvPr/>
          </p:nvSpPr>
          <p:spPr>
            <a:xfrm>
              <a:off x="1712520" y="4143960"/>
              <a:ext cx="1678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ＱＣサークルを活発にするには</a:t>
              </a:r>
              <a:endParaRPr b="0" lang="en-US" sz="14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77" name="Line 37"/>
            <p:cNvSpPr/>
            <p:nvPr/>
          </p:nvSpPr>
          <p:spPr>
            <a:xfrm flipH="1">
              <a:off x="3765240" y="4298760"/>
              <a:ext cx="36432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78" name="Rectangle 38"/>
            <p:cNvSpPr/>
            <p:nvPr/>
          </p:nvSpPr>
          <p:spPr>
            <a:xfrm>
              <a:off x="4074120" y="4118040"/>
              <a:ext cx="339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①</a:t>
              </a:r>
              <a:endParaRPr b="0" lang="en-US" sz="16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79" name="Line 39"/>
            <p:cNvSpPr/>
            <p:nvPr/>
          </p:nvSpPr>
          <p:spPr>
            <a:xfrm>
              <a:off x="1557360" y="5361840"/>
              <a:ext cx="457560" cy="17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80" name="Rectangle 40"/>
            <p:cNvSpPr/>
            <p:nvPr/>
          </p:nvSpPr>
          <p:spPr>
            <a:xfrm>
              <a:off x="6292800" y="4206600"/>
              <a:ext cx="339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⑥</a:t>
              </a:r>
              <a:endParaRPr b="0" lang="en-US" sz="16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81" name="Rectangle 41"/>
            <p:cNvSpPr/>
            <p:nvPr/>
          </p:nvSpPr>
          <p:spPr>
            <a:xfrm>
              <a:off x="1311120" y="4560840"/>
              <a:ext cx="339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⑤</a:t>
              </a:r>
              <a:endParaRPr b="0" lang="en-US" sz="16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82" name="Rectangle 42"/>
            <p:cNvSpPr/>
            <p:nvPr/>
          </p:nvSpPr>
          <p:spPr>
            <a:xfrm>
              <a:off x="6899040" y="4992840"/>
              <a:ext cx="339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④</a:t>
              </a:r>
              <a:endParaRPr b="0" lang="en-US" sz="16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83" name="Rectangle 43"/>
            <p:cNvSpPr/>
            <p:nvPr/>
          </p:nvSpPr>
          <p:spPr>
            <a:xfrm>
              <a:off x="1311120" y="6233400"/>
              <a:ext cx="339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③</a:t>
              </a:r>
              <a:endParaRPr b="0" lang="en-US" sz="16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84" name="Rectangle 44"/>
            <p:cNvSpPr/>
            <p:nvPr/>
          </p:nvSpPr>
          <p:spPr>
            <a:xfrm>
              <a:off x="1311120" y="5170320"/>
              <a:ext cx="339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②</a:t>
              </a:r>
              <a:endParaRPr b="0" lang="en-US" sz="16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85" name="Line 45"/>
            <p:cNvSpPr/>
            <p:nvPr/>
          </p:nvSpPr>
          <p:spPr>
            <a:xfrm flipH="1">
              <a:off x="6536880" y="5184720"/>
              <a:ext cx="45792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86" name="Line 46"/>
            <p:cNvSpPr/>
            <p:nvPr/>
          </p:nvSpPr>
          <p:spPr>
            <a:xfrm flipV="1">
              <a:off x="1554840" y="6246000"/>
              <a:ext cx="642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87" name="Line 47"/>
            <p:cNvSpPr/>
            <p:nvPr/>
          </p:nvSpPr>
          <p:spPr>
            <a:xfrm flipV="1">
              <a:off x="1554840" y="6157080"/>
              <a:ext cx="27360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1557360" y="4741560"/>
              <a:ext cx="82656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>
              <a:off x="1557360" y="4741560"/>
              <a:ext cx="45756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90" name="Line 50"/>
            <p:cNvSpPr/>
            <p:nvPr/>
          </p:nvSpPr>
          <p:spPr>
            <a:xfrm>
              <a:off x="6441480" y="447588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91" name="Line 51"/>
            <p:cNvSpPr/>
            <p:nvPr/>
          </p:nvSpPr>
          <p:spPr>
            <a:xfrm flipH="1">
              <a:off x="6036840" y="4475880"/>
              <a:ext cx="376200" cy="17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</p:grpSp>
      <p:sp>
        <p:nvSpPr>
          <p:cNvPr id="292" name="Rectangle 17"/>
          <p:cNvSpPr/>
          <p:nvPr/>
        </p:nvSpPr>
        <p:spPr>
          <a:xfrm>
            <a:off x="1055520" y="549360"/>
            <a:ext cx="10080720" cy="331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3" name="Rectangle 35"/>
          <p:cNvSpPr/>
          <p:nvPr/>
        </p:nvSpPr>
        <p:spPr>
          <a:xfrm>
            <a:off x="3422520" y="361800"/>
            <a:ext cx="216216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操作しやすいビデオカメラ</a:t>
            </a: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4" name="Rectangle 36"/>
          <p:cNvSpPr/>
          <p:nvPr/>
        </p:nvSpPr>
        <p:spPr>
          <a:xfrm>
            <a:off x="514440" y="15840"/>
            <a:ext cx="741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（４）作成例　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『</a:t>
            </a:r>
            <a:r>
              <a:rPr b="1" lang="ja-JP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操作しやすいビデオカメラのお客様ニーズ調査結果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』</a:t>
            </a:r>
            <a:endParaRPr b="0" lang="en-US" sz="1600" spc="-1" strike="noStrike">
              <a:solidFill>
                <a:srgbClr val="000000"/>
              </a:solidFill>
              <a:latin typeface="Aptos"/>
            </a:endParaRPr>
          </a:p>
        </p:txBody>
      </p:sp>
      <p:grpSp>
        <p:nvGrpSpPr>
          <p:cNvPr id="295" name="Group 41"/>
          <p:cNvGrpSpPr/>
          <p:nvPr/>
        </p:nvGrpSpPr>
        <p:grpSpPr>
          <a:xfrm>
            <a:off x="1554120" y="630360"/>
            <a:ext cx="9294120" cy="3142440"/>
            <a:chOff x="1554120" y="630360"/>
            <a:chExt cx="9294120" cy="3142440"/>
          </a:xfrm>
        </p:grpSpPr>
        <p:sp>
          <p:nvSpPr>
            <p:cNvPr id="296" name="Rectangle 18"/>
            <p:cNvSpPr/>
            <p:nvPr/>
          </p:nvSpPr>
          <p:spPr>
            <a:xfrm>
              <a:off x="1554120" y="906120"/>
              <a:ext cx="3518640" cy="28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97" name="Rectangle 19"/>
            <p:cNvSpPr/>
            <p:nvPr/>
          </p:nvSpPr>
          <p:spPr>
            <a:xfrm>
              <a:off x="2014560" y="719280"/>
              <a:ext cx="1404000" cy="44100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持ちやすい</a:t>
              </a:r>
              <a:endParaRPr b="0" lang="en-US" sz="14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98" name="Rectangle 20"/>
            <p:cNvSpPr/>
            <p:nvPr/>
          </p:nvSpPr>
          <p:spPr>
            <a:xfrm>
              <a:off x="1621800" y="1944720"/>
              <a:ext cx="1811880" cy="55152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軽くて持ちやすい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299" name="Rectangle 21"/>
            <p:cNvSpPr/>
            <p:nvPr/>
          </p:nvSpPr>
          <p:spPr>
            <a:xfrm>
              <a:off x="1621800" y="2698200"/>
              <a:ext cx="1811880" cy="51372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手にぴったりと合う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00" name="Rectangle 22"/>
            <p:cNvSpPr/>
            <p:nvPr/>
          </p:nvSpPr>
          <p:spPr>
            <a:xfrm>
              <a:off x="3547080" y="2155680"/>
              <a:ext cx="1411920" cy="7257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持ったとき</a:t>
              </a:r>
              <a:br>
                <a:rPr sz="1200"/>
              </a:b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安定感がある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01" name="Rectangle 24"/>
            <p:cNvSpPr/>
            <p:nvPr/>
          </p:nvSpPr>
          <p:spPr>
            <a:xfrm>
              <a:off x="3554280" y="2964240"/>
              <a:ext cx="1404360" cy="55152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握りやすい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1621800" y="1356120"/>
              <a:ext cx="1811880" cy="45000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持ち運びしやすい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03" name="Rectangle 27"/>
            <p:cNvSpPr/>
            <p:nvPr/>
          </p:nvSpPr>
          <p:spPr>
            <a:xfrm>
              <a:off x="3486600" y="1292400"/>
              <a:ext cx="1472400" cy="6890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小さくて</a:t>
              </a:r>
              <a:br>
                <a:rPr sz="1200"/>
              </a:b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持ちやすい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04" name="Rectangle 28"/>
            <p:cNvSpPr/>
            <p:nvPr/>
          </p:nvSpPr>
          <p:spPr>
            <a:xfrm>
              <a:off x="5185440" y="960840"/>
              <a:ext cx="3284640" cy="281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5865480" y="667080"/>
              <a:ext cx="1987560" cy="486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楽に操作できる</a:t>
              </a:r>
              <a:endParaRPr b="0" lang="en-US" sz="14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5298480" y="2091960"/>
              <a:ext cx="1359360" cy="716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思い通りに</a:t>
              </a:r>
              <a:br>
                <a:rPr sz="1200"/>
              </a:b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調整できる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07" name="Rectangle 31"/>
            <p:cNvSpPr/>
            <p:nvPr/>
          </p:nvSpPr>
          <p:spPr>
            <a:xfrm>
              <a:off x="5298480" y="2946240"/>
              <a:ext cx="1364040" cy="689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調整状態を</a:t>
              </a:r>
              <a:br>
                <a:rPr sz="1200"/>
              </a:b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確認できる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6771240" y="1292400"/>
              <a:ext cx="1585440" cy="587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手の動きに合う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09" name="Rectangle 34"/>
            <p:cNvSpPr/>
            <p:nvPr/>
          </p:nvSpPr>
          <p:spPr>
            <a:xfrm>
              <a:off x="5298480" y="1255320"/>
              <a:ext cx="1359360" cy="7257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動作中に調整</a:t>
              </a:r>
              <a:br>
                <a:rPr sz="1200"/>
              </a:b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できる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10" name="Rectangle 32"/>
            <p:cNvSpPr/>
            <p:nvPr/>
          </p:nvSpPr>
          <p:spPr>
            <a:xfrm>
              <a:off x="6846480" y="2118960"/>
              <a:ext cx="1509840" cy="1103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軽く引くだけで</a:t>
              </a:r>
              <a:br>
                <a:rPr sz="1200"/>
              </a:b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調整できる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11" name="Rectangle 28"/>
            <p:cNvSpPr/>
            <p:nvPr/>
          </p:nvSpPr>
          <p:spPr>
            <a:xfrm>
              <a:off x="8583120" y="960840"/>
              <a:ext cx="2265120" cy="281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12" name="Rectangle 29"/>
            <p:cNvSpPr/>
            <p:nvPr/>
          </p:nvSpPr>
          <p:spPr>
            <a:xfrm>
              <a:off x="8696880" y="630360"/>
              <a:ext cx="1987560" cy="486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操作がわかりやすい</a:t>
              </a:r>
              <a:endParaRPr b="0" lang="en-US" sz="14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13" name="Rectangle 34"/>
            <p:cNvSpPr/>
            <p:nvPr/>
          </p:nvSpPr>
          <p:spPr>
            <a:xfrm>
              <a:off x="8802360" y="1347120"/>
              <a:ext cx="1819440" cy="725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使用方法が</a:t>
              </a:r>
              <a:br>
                <a:rPr sz="1200"/>
              </a:b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わかりやすい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14" name="Rectangle 34"/>
            <p:cNvSpPr/>
            <p:nvPr/>
          </p:nvSpPr>
          <p:spPr>
            <a:xfrm>
              <a:off x="8809920" y="2164680"/>
              <a:ext cx="1811880" cy="725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初心者でも</a:t>
              </a:r>
              <a:br>
                <a:rPr sz="1200"/>
              </a:b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操作がしやすい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  <p:sp>
          <p:nvSpPr>
            <p:cNvPr id="315" name="Rectangle 34"/>
            <p:cNvSpPr/>
            <p:nvPr/>
          </p:nvSpPr>
          <p:spPr>
            <a:xfrm>
              <a:off x="8809920" y="2992320"/>
              <a:ext cx="1811880" cy="725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オンラインヘルプ</a:t>
              </a:r>
              <a:br>
                <a:rPr sz="1200"/>
              </a:b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になっている</a:t>
              </a:r>
              <a:endParaRPr b="0" lang="en-US" sz="1200" spc="-1" strike="noStrike">
                <a:solidFill>
                  <a:srgbClr val="000000"/>
                </a:solidFill>
                <a:latin typeface="Apto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テキスト ボックス 8"/>
          <p:cNvSpPr/>
          <p:nvPr/>
        </p:nvSpPr>
        <p:spPr>
          <a:xfrm>
            <a:off x="574560" y="260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参考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7" name="楕円 11"/>
          <p:cNvSpPr/>
          <p:nvPr/>
        </p:nvSpPr>
        <p:spPr>
          <a:xfrm>
            <a:off x="1338120" y="1066680"/>
            <a:ext cx="1441440" cy="719280"/>
          </a:xfrm>
          <a:prstGeom prst="ellipse">
            <a:avLst/>
          </a:prstGeom>
          <a:solidFill>
            <a:srgbClr val="f6c6ad"/>
          </a:solidFill>
          <a:ln w="19080">
            <a:solidFill>
              <a:srgbClr val="0424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要因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8" name="楕円 12"/>
          <p:cNvSpPr/>
          <p:nvPr/>
        </p:nvSpPr>
        <p:spPr>
          <a:xfrm>
            <a:off x="3451320" y="1347840"/>
            <a:ext cx="1800000" cy="718920"/>
          </a:xfrm>
          <a:prstGeom prst="ellipse">
            <a:avLst/>
          </a:prstGeom>
          <a:solidFill>
            <a:srgbClr val="f6c6ad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問題点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9" name="楕円 17"/>
          <p:cNvSpPr/>
          <p:nvPr/>
        </p:nvSpPr>
        <p:spPr>
          <a:xfrm>
            <a:off x="2502000" y="2295360"/>
            <a:ext cx="1439640" cy="720720"/>
          </a:xfrm>
          <a:prstGeom prst="ellipse">
            <a:avLst/>
          </a:prstGeom>
          <a:solidFill>
            <a:srgbClr val="f6c6ad"/>
          </a:solidFill>
          <a:ln w="19080">
            <a:solidFill>
              <a:srgbClr val="0424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要因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0" name="矢印: 右 18"/>
          <p:cNvSpPr/>
          <p:nvPr/>
        </p:nvSpPr>
        <p:spPr>
          <a:xfrm flipV="1" rot="1197600">
            <a:off x="2906280" y="1450080"/>
            <a:ext cx="506160" cy="198720"/>
          </a:xfrm>
          <a:prstGeom prst="rightArrow">
            <a:avLst>
              <a:gd name="adj1" fmla="val 50000"/>
              <a:gd name="adj2" fmla="val 49904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1" name="矢印: 右 19"/>
          <p:cNvSpPr/>
          <p:nvPr/>
        </p:nvSpPr>
        <p:spPr>
          <a:xfrm flipV="1" rot="17834400">
            <a:off x="3506400" y="2118600"/>
            <a:ext cx="508320" cy="19980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2" name="矢印: 右 20"/>
          <p:cNvSpPr/>
          <p:nvPr/>
        </p:nvSpPr>
        <p:spPr>
          <a:xfrm flipV="1" rot="9508200">
            <a:off x="5013000" y="1421280"/>
            <a:ext cx="506520" cy="1983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3" name="矢印: 右 21"/>
          <p:cNvSpPr/>
          <p:nvPr/>
        </p:nvSpPr>
        <p:spPr>
          <a:xfrm flipV="1" rot="10800000">
            <a:off x="3830760" y="2574000"/>
            <a:ext cx="506160" cy="19836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4" name="テキスト ボックス 22"/>
          <p:cNvSpPr/>
          <p:nvPr/>
        </p:nvSpPr>
        <p:spPr>
          <a:xfrm>
            <a:off x="7175520" y="33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◆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連関図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5" name="直線コネクタ 23"/>
          <p:cNvSpPr/>
          <p:nvPr/>
        </p:nvSpPr>
        <p:spPr>
          <a:xfrm>
            <a:off x="606600" y="3429000"/>
            <a:ext cx="1089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6" name="楕円 24"/>
          <p:cNvSpPr/>
          <p:nvPr/>
        </p:nvSpPr>
        <p:spPr>
          <a:xfrm>
            <a:off x="574560" y="4503600"/>
            <a:ext cx="2017800" cy="71928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達成したい目的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7" name="楕円 25"/>
          <p:cNvSpPr/>
          <p:nvPr/>
        </p:nvSpPr>
        <p:spPr>
          <a:xfrm>
            <a:off x="2835360" y="3795840"/>
            <a:ext cx="1439640" cy="72072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424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手段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8" name="楕円 26"/>
          <p:cNvSpPr/>
          <p:nvPr/>
        </p:nvSpPr>
        <p:spPr>
          <a:xfrm>
            <a:off x="2881440" y="5297400"/>
            <a:ext cx="1439640" cy="72072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424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手段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9" name="楕円 27"/>
          <p:cNvSpPr/>
          <p:nvPr/>
        </p:nvSpPr>
        <p:spPr>
          <a:xfrm>
            <a:off x="4984920" y="3643200"/>
            <a:ext cx="1439640" cy="72072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424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手段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0" name="楕円 28"/>
          <p:cNvSpPr/>
          <p:nvPr/>
        </p:nvSpPr>
        <p:spPr>
          <a:xfrm>
            <a:off x="4984920" y="4183200"/>
            <a:ext cx="1439640" cy="72072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424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手段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1" name="楕円 29"/>
          <p:cNvSpPr/>
          <p:nvPr/>
        </p:nvSpPr>
        <p:spPr>
          <a:xfrm>
            <a:off x="5181480" y="4862520"/>
            <a:ext cx="1441440" cy="72072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424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手段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2" name="楕円 30"/>
          <p:cNvSpPr/>
          <p:nvPr/>
        </p:nvSpPr>
        <p:spPr>
          <a:xfrm>
            <a:off x="5181480" y="5487840"/>
            <a:ext cx="1441440" cy="72072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424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手段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3" name="矢印: 右 31"/>
          <p:cNvSpPr/>
          <p:nvPr/>
        </p:nvSpPr>
        <p:spPr>
          <a:xfrm flipV="1" rot="19985400">
            <a:off x="2355480" y="4280040"/>
            <a:ext cx="507960" cy="19980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4" name="矢印: 右 32"/>
          <p:cNvSpPr/>
          <p:nvPr/>
        </p:nvSpPr>
        <p:spPr>
          <a:xfrm flipV="1" rot="21058800">
            <a:off x="4338720" y="3853440"/>
            <a:ext cx="506160" cy="198720"/>
          </a:xfrm>
          <a:prstGeom prst="rightArrow">
            <a:avLst>
              <a:gd name="adj1" fmla="val 50000"/>
              <a:gd name="adj2" fmla="val 49904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5" name="矢印: 右 33"/>
          <p:cNvSpPr/>
          <p:nvPr/>
        </p:nvSpPr>
        <p:spPr>
          <a:xfrm flipV="1" rot="961800">
            <a:off x="4367160" y="4234320"/>
            <a:ext cx="506520" cy="20052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6" name="矢印: 右 34"/>
          <p:cNvSpPr/>
          <p:nvPr/>
        </p:nvSpPr>
        <p:spPr>
          <a:xfrm flipV="1" rot="1473600">
            <a:off x="2482560" y="5182920"/>
            <a:ext cx="506520" cy="1983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7" name="矢印: 右 35"/>
          <p:cNvSpPr/>
          <p:nvPr/>
        </p:nvSpPr>
        <p:spPr>
          <a:xfrm flipV="1" rot="461400">
            <a:off x="4454280" y="5680800"/>
            <a:ext cx="506160" cy="20016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8" name="矢印: 右 36"/>
          <p:cNvSpPr/>
          <p:nvPr/>
        </p:nvSpPr>
        <p:spPr>
          <a:xfrm flipV="1" rot="20010600">
            <a:off x="4508280" y="5272200"/>
            <a:ext cx="506160" cy="19980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9" name="テキスト ボックス 37"/>
          <p:cNvSpPr/>
          <p:nvPr/>
        </p:nvSpPr>
        <p:spPr>
          <a:xfrm>
            <a:off x="7319880" y="3833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◆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系統図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0" name="楕円 38"/>
          <p:cNvSpPr/>
          <p:nvPr/>
        </p:nvSpPr>
        <p:spPr>
          <a:xfrm>
            <a:off x="5442120" y="1033560"/>
            <a:ext cx="1439640" cy="720720"/>
          </a:xfrm>
          <a:prstGeom prst="ellipse">
            <a:avLst/>
          </a:prstGeom>
          <a:solidFill>
            <a:srgbClr val="f6c6ad"/>
          </a:solidFill>
          <a:ln w="19080">
            <a:solidFill>
              <a:srgbClr val="0424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要因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1" name="楕円 39"/>
          <p:cNvSpPr/>
          <p:nvPr/>
        </p:nvSpPr>
        <p:spPr>
          <a:xfrm>
            <a:off x="4376880" y="2349360"/>
            <a:ext cx="1441440" cy="720720"/>
          </a:xfrm>
          <a:prstGeom prst="ellipse">
            <a:avLst/>
          </a:prstGeom>
          <a:solidFill>
            <a:srgbClr val="f6c6ad"/>
          </a:solidFill>
          <a:ln w="19080">
            <a:solidFill>
              <a:srgbClr val="0424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ptos"/>
                <a:ea typeface="游ゴシック"/>
              </a:rPr>
              <a:t>要因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2" name="テキスト ボックス 1"/>
          <p:cNvSpPr/>
          <p:nvPr/>
        </p:nvSpPr>
        <p:spPr>
          <a:xfrm>
            <a:off x="10453680" y="101520"/>
            <a:ext cx="16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読本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38</a:t>
            </a:r>
            <a:endParaRPr b="0" lang="en-US" sz="16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3" name="テキスト ボックス 22"/>
          <p:cNvSpPr/>
          <p:nvPr/>
        </p:nvSpPr>
        <p:spPr>
          <a:xfrm>
            <a:off x="7353360" y="1116000"/>
            <a:ext cx="4707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・どんなときに使用するのか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原因と結果、目的と手段などが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複雑に絡み合った問題の整理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枠にとらわれず自由な発想の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転換、展開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4" name="テキスト ボックス 22"/>
          <p:cNvSpPr/>
          <p:nvPr/>
        </p:nvSpPr>
        <p:spPr>
          <a:xfrm>
            <a:off x="7353360" y="436392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・どんなときに使用するのか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目的達成のために必要な手段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方法の具体化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ンバーの意思統一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関係者の説得性を高めるために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手段を一目でわかるように整理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08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親和図法の根底基本は　⇒　◆層別</a:t>
            </a:r>
            <a:endParaRPr b="0" lang="en-US" sz="36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03240" y="907920"/>
            <a:ext cx="822960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１）層別とは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データをある基準に照らし合わせ、項目別に分類すること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同じ共通点や特徴を持ちいくつかのグループ（層）に別けて、各グループ間の違いを見つける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" name="乗算記号 6"/>
          <p:cNvSpPr/>
          <p:nvPr/>
        </p:nvSpPr>
        <p:spPr>
          <a:xfrm>
            <a:off x="2482920" y="5608800"/>
            <a:ext cx="193680" cy="25380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" name="乗算記号 7"/>
          <p:cNvSpPr/>
          <p:nvPr/>
        </p:nvSpPr>
        <p:spPr>
          <a:xfrm>
            <a:off x="2892600" y="4538520"/>
            <a:ext cx="191880" cy="254160"/>
          </a:xfrm>
          <a:custGeom>
            <a:avLst/>
            <a:gdLst/>
            <a:ahLst/>
            <a:rect l="l" t="t" r="r" b="b"/>
            <a:pathLst>
              <a:path w="192088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6" y="47379"/>
                </a:lnTo>
                <a:lnTo>
                  <a:pt x="163971" y="74630"/>
                </a:lnTo>
                <a:lnTo>
                  <a:pt x="124366" y="127000"/>
                </a:lnTo>
                <a:lnTo>
                  <a:pt x="163971" y="179370"/>
                </a:lnTo>
                <a:lnTo>
                  <a:pt x="127936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9" name="乗算記号 8"/>
          <p:cNvSpPr/>
          <p:nvPr/>
        </p:nvSpPr>
        <p:spPr>
          <a:xfrm>
            <a:off x="3084480" y="3860640"/>
            <a:ext cx="193680" cy="252720"/>
          </a:xfrm>
          <a:custGeom>
            <a:avLst/>
            <a:gdLst/>
            <a:ahLst/>
            <a:rect l="l" t="t" r="r" b="b"/>
            <a:pathLst>
              <a:path w="193675" h="252413">
                <a:moveTo>
                  <a:pt x="28446" y="74488"/>
                </a:moveTo>
                <a:lnTo>
                  <a:pt x="64586" y="46758"/>
                </a:lnTo>
                <a:lnTo>
                  <a:pt x="96838" y="88792"/>
                </a:lnTo>
                <a:lnTo>
                  <a:pt x="129089" y="46758"/>
                </a:lnTo>
                <a:lnTo>
                  <a:pt x="165229" y="74488"/>
                </a:lnTo>
                <a:lnTo>
                  <a:pt x="125546" y="126207"/>
                </a:lnTo>
                <a:lnTo>
                  <a:pt x="165229" y="177925"/>
                </a:lnTo>
                <a:lnTo>
                  <a:pt x="129089" y="205655"/>
                </a:lnTo>
                <a:lnTo>
                  <a:pt x="96838" y="163621"/>
                </a:lnTo>
                <a:lnTo>
                  <a:pt x="64586" y="205655"/>
                </a:lnTo>
                <a:lnTo>
                  <a:pt x="28446" y="177925"/>
                </a:lnTo>
                <a:lnTo>
                  <a:pt x="68129" y="126207"/>
                </a:lnTo>
                <a:lnTo>
                  <a:pt x="28446" y="74488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0" name="乗算記号 9"/>
          <p:cNvSpPr/>
          <p:nvPr/>
        </p:nvSpPr>
        <p:spPr>
          <a:xfrm>
            <a:off x="2219400" y="4281480"/>
            <a:ext cx="191880" cy="254160"/>
          </a:xfrm>
          <a:custGeom>
            <a:avLst/>
            <a:gdLst/>
            <a:ahLst/>
            <a:rect l="l" t="t" r="r" b="b"/>
            <a:pathLst>
              <a:path w="192088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6" y="47379"/>
                </a:lnTo>
                <a:lnTo>
                  <a:pt x="163971" y="74630"/>
                </a:lnTo>
                <a:lnTo>
                  <a:pt x="124366" y="127000"/>
                </a:lnTo>
                <a:lnTo>
                  <a:pt x="163971" y="179370"/>
                </a:lnTo>
                <a:lnTo>
                  <a:pt x="127936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1" name="四角形: 角を丸くする 10"/>
          <p:cNvSpPr/>
          <p:nvPr/>
        </p:nvSpPr>
        <p:spPr>
          <a:xfrm>
            <a:off x="2728800" y="4113360"/>
            <a:ext cx="163800" cy="168120"/>
          </a:xfrm>
          <a:custGeom>
            <a:avLst/>
            <a:gdLst>
              <a:gd name="textAreaLeft" fmla="*/ 7920 w 163800"/>
              <a:gd name="textAreaRight" fmla="*/ 155880 w 16380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168">
                <a:moveTo>
                  <a:pt x="3600" y="0"/>
                </a:moveTo>
                <a:arcTo wR="3600" hR="3600" stAng="16200000" swAng="-5400000"/>
                <a:lnTo>
                  <a:pt x="0" y="18568"/>
                </a:lnTo>
                <a:arcTo wR="3600" hR="3600" stAng="10800000" swAng="-5400000"/>
                <a:lnTo>
                  <a:pt x="18000" y="221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2" name="四角形: 角を丸くする 11"/>
          <p:cNvSpPr/>
          <p:nvPr/>
        </p:nvSpPr>
        <p:spPr>
          <a:xfrm>
            <a:off x="3209760" y="4270320"/>
            <a:ext cx="163800" cy="168480"/>
          </a:xfrm>
          <a:custGeom>
            <a:avLst/>
            <a:gdLst>
              <a:gd name="textAreaLeft" fmla="*/ 7920 w 163800"/>
              <a:gd name="textAreaRight" fmla="*/ 155880 w 163800"/>
              <a:gd name="textAreaTop" fmla="*/ 7920 h 168480"/>
              <a:gd name="textAreaBottom" fmla="*/ 160560 h 168480"/>
            </a:gdLst>
            <a:ahLst/>
            <a:rect l="textAreaLeft" t="textAreaTop" r="textAreaRight" b="textAreaBottom"/>
            <a:pathLst>
              <a:path w="21600" h="22216">
                <a:moveTo>
                  <a:pt x="3600" y="0"/>
                </a:moveTo>
                <a:arcTo wR="3600" hR="3600" stAng="16200000" swAng="-5400000"/>
                <a:lnTo>
                  <a:pt x="0" y="18616"/>
                </a:lnTo>
                <a:arcTo wR="3600" hR="3600" stAng="10800000" swAng="-5400000"/>
                <a:lnTo>
                  <a:pt x="18000" y="22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3" name="四角形: 角を丸くする 12"/>
          <p:cNvSpPr/>
          <p:nvPr/>
        </p:nvSpPr>
        <p:spPr>
          <a:xfrm>
            <a:off x="2152800" y="4834080"/>
            <a:ext cx="163440" cy="16812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217">
                <a:moveTo>
                  <a:pt x="3600" y="0"/>
                </a:moveTo>
                <a:arcTo wR="3600" hR="3600" stAng="16200000" swAng="-5400000"/>
                <a:lnTo>
                  <a:pt x="0" y="18617"/>
                </a:lnTo>
                <a:arcTo wR="3600" hR="3600" stAng="10800000" swAng="-5400000"/>
                <a:lnTo>
                  <a:pt x="18000" y="22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4" name="楕円 13"/>
          <p:cNvSpPr/>
          <p:nvPr/>
        </p:nvSpPr>
        <p:spPr>
          <a:xfrm>
            <a:off x="2330280" y="3916440"/>
            <a:ext cx="163800" cy="160200"/>
          </a:xfrm>
          <a:prstGeom prst="ellipse">
            <a:avLst/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5" name="楕円 14"/>
          <p:cNvSpPr/>
          <p:nvPr/>
        </p:nvSpPr>
        <p:spPr>
          <a:xfrm>
            <a:off x="2503440" y="4692600"/>
            <a:ext cx="163440" cy="160560"/>
          </a:xfrm>
          <a:prstGeom prst="ellipse">
            <a:avLst/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6" name="楕円 15"/>
          <p:cNvSpPr/>
          <p:nvPr/>
        </p:nvSpPr>
        <p:spPr>
          <a:xfrm>
            <a:off x="2846520" y="6299280"/>
            <a:ext cx="163440" cy="158760"/>
          </a:xfrm>
          <a:prstGeom prst="ellipse">
            <a:avLst/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7" name="二等辺三角形 16"/>
          <p:cNvSpPr/>
          <p:nvPr/>
        </p:nvSpPr>
        <p:spPr>
          <a:xfrm>
            <a:off x="2728800" y="3773520"/>
            <a:ext cx="163800" cy="173160"/>
          </a:xfrm>
          <a:prstGeom prst="triangle">
            <a:avLst>
              <a:gd name="adj" fmla="val 50000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8" name="二等辺三角形 17"/>
          <p:cNvSpPr/>
          <p:nvPr/>
        </p:nvSpPr>
        <p:spPr>
          <a:xfrm>
            <a:off x="1930320" y="4354560"/>
            <a:ext cx="162000" cy="174600"/>
          </a:xfrm>
          <a:prstGeom prst="triangle">
            <a:avLst>
              <a:gd name="adj" fmla="val 50000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9" name="二等辺三角形 18"/>
          <p:cNvSpPr/>
          <p:nvPr/>
        </p:nvSpPr>
        <p:spPr>
          <a:xfrm>
            <a:off x="2179800" y="5175360"/>
            <a:ext cx="161640" cy="174600"/>
          </a:xfrm>
          <a:prstGeom prst="triangle">
            <a:avLst>
              <a:gd name="adj" fmla="val 50000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0" name="星: 5 pt 19"/>
          <p:cNvSpPr/>
          <p:nvPr/>
        </p:nvSpPr>
        <p:spPr>
          <a:xfrm>
            <a:off x="2120760" y="3633840"/>
            <a:ext cx="162000" cy="173160"/>
          </a:xfrm>
          <a:custGeom>
            <a:avLst/>
            <a:gdLst/>
            <a:ahLst/>
            <a:rect l="l" t="t" r="r" b="b"/>
            <a:pathLst>
              <a:path w="161925" h="173037">
                <a:moveTo>
                  <a:pt x="0" y="66094"/>
                </a:moveTo>
                <a:lnTo>
                  <a:pt x="61850" y="66095"/>
                </a:lnTo>
                <a:lnTo>
                  <a:pt x="80963" y="0"/>
                </a:lnTo>
                <a:lnTo>
                  <a:pt x="100075" y="66095"/>
                </a:lnTo>
                <a:lnTo>
                  <a:pt x="161925" y="66094"/>
                </a:lnTo>
                <a:lnTo>
                  <a:pt x="111887" y="106942"/>
                </a:lnTo>
                <a:lnTo>
                  <a:pt x="131000" y="173037"/>
                </a:lnTo>
                <a:lnTo>
                  <a:pt x="80963" y="132188"/>
                </a:lnTo>
                <a:lnTo>
                  <a:pt x="30925" y="173037"/>
                </a:lnTo>
                <a:lnTo>
                  <a:pt x="50038" y="106942"/>
                </a:lnTo>
                <a:lnTo>
                  <a:pt x="0" y="66094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1" name="星: 5 pt 20"/>
          <p:cNvSpPr/>
          <p:nvPr/>
        </p:nvSpPr>
        <p:spPr>
          <a:xfrm>
            <a:off x="2489040" y="4351320"/>
            <a:ext cx="163800" cy="174600"/>
          </a:xfrm>
          <a:custGeom>
            <a:avLst/>
            <a:gdLst/>
            <a:ahLst/>
            <a:rect l="l" t="t" r="r" b="b"/>
            <a:pathLst>
              <a:path w="163513" h="174625">
                <a:moveTo>
                  <a:pt x="0" y="66701"/>
                </a:moveTo>
                <a:lnTo>
                  <a:pt x="62457" y="66701"/>
                </a:lnTo>
                <a:lnTo>
                  <a:pt x="81757" y="0"/>
                </a:lnTo>
                <a:lnTo>
                  <a:pt x="101056" y="66701"/>
                </a:lnTo>
                <a:lnTo>
                  <a:pt x="163513" y="66701"/>
                </a:lnTo>
                <a:lnTo>
                  <a:pt x="112984" y="107924"/>
                </a:lnTo>
                <a:lnTo>
                  <a:pt x="132285" y="174625"/>
                </a:lnTo>
                <a:lnTo>
                  <a:pt x="81757" y="133401"/>
                </a:lnTo>
                <a:lnTo>
                  <a:pt x="31228" y="174625"/>
                </a:lnTo>
                <a:lnTo>
                  <a:pt x="50529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2" name="星: 5 pt 21"/>
          <p:cNvSpPr/>
          <p:nvPr/>
        </p:nvSpPr>
        <p:spPr>
          <a:xfrm>
            <a:off x="2503440" y="5002200"/>
            <a:ext cx="163440" cy="173160"/>
          </a:xfrm>
          <a:custGeom>
            <a:avLst/>
            <a:gdLst/>
            <a:ahLst/>
            <a:rect l="l" t="t" r="r" b="b"/>
            <a:pathLst>
              <a:path w="163512" h="173037">
                <a:moveTo>
                  <a:pt x="0" y="66094"/>
                </a:moveTo>
                <a:lnTo>
                  <a:pt x="62456" y="66095"/>
                </a:lnTo>
                <a:lnTo>
                  <a:pt x="81756" y="0"/>
                </a:lnTo>
                <a:lnTo>
                  <a:pt x="101056" y="66095"/>
                </a:lnTo>
                <a:lnTo>
                  <a:pt x="163512" y="66094"/>
                </a:lnTo>
                <a:lnTo>
                  <a:pt x="112983" y="106942"/>
                </a:lnTo>
                <a:lnTo>
                  <a:pt x="132284" y="173037"/>
                </a:lnTo>
                <a:lnTo>
                  <a:pt x="81756" y="132188"/>
                </a:lnTo>
                <a:lnTo>
                  <a:pt x="31228" y="173037"/>
                </a:lnTo>
                <a:lnTo>
                  <a:pt x="50529" y="106942"/>
                </a:lnTo>
                <a:lnTo>
                  <a:pt x="0" y="66094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3" name="乗算記号 22"/>
          <p:cNvSpPr/>
          <p:nvPr/>
        </p:nvSpPr>
        <p:spPr>
          <a:xfrm>
            <a:off x="1739880" y="4997520"/>
            <a:ext cx="192240" cy="252360"/>
          </a:xfrm>
          <a:custGeom>
            <a:avLst/>
            <a:gdLst/>
            <a:ahLst/>
            <a:rect l="l" t="t" r="r" b="b"/>
            <a:pathLst>
              <a:path w="192088" h="252413">
                <a:moveTo>
                  <a:pt x="28159" y="74303"/>
                </a:moveTo>
                <a:lnTo>
                  <a:pt x="64111" y="46943"/>
                </a:lnTo>
                <a:lnTo>
                  <a:pt x="96044" y="88905"/>
                </a:lnTo>
                <a:lnTo>
                  <a:pt x="127977" y="46943"/>
                </a:lnTo>
                <a:lnTo>
                  <a:pt x="163929" y="74303"/>
                </a:lnTo>
                <a:lnTo>
                  <a:pt x="124431" y="126207"/>
                </a:lnTo>
                <a:lnTo>
                  <a:pt x="163929" y="178110"/>
                </a:lnTo>
                <a:lnTo>
                  <a:pt x="127977" y="205470"/>
                </a:lnTo>
                <a:lnTo>
                  <a:pt x="96044" y="163508"/>
                </a:lnTo>
                <a:lnTo>
                  <a:pt x="64111" y="205470"/>
                </a:lnTo>
                <a:lnTo>
                  <a:pt x="28159" y="178110"/>
                </a:lnTo>
                <a:lnTo>
                  <a:pt x="67657" y="126207"/>
                </a:lnTo>
                <a:lnTo>
                  <a:pt x="28159" y="74303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4" name="乗算記号 23"/>
          <p:cNvSpPr/>
          <p:nvPr/>
        </p:nvSpPr>
        <p:spPr>
          <a:xfrm>
            <a:off x="2739960" y="4321080"/>
            <a:ext cx="193680" cy="25416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5" name="乗算記号 24"/>
          <p:cNvSpPr/>
          <p:nvPr/>
        </p:nvSpPr>
        <p:spPr>
          <a:xfrm>
            <a:off x="1679400" y="4368960"/>
            <a:ext cx="192240" cy="253800"/>
          </a:xfrm>
          <a:custGeom>
            <a:avLst/>
            <a:gdLst/>
            <a:ahLst/>
            <a:rect l="l" t="t" r="r" b="b"/>
            <a:pathLst>
              <a:path w="192088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6" y="47379"/>
                </a:lnTo>
                <a:lnTo>
                  <a:pt x="163971" y="74630"/>
                </a:lnTo>
                <a:lnTo>
                  <a:pt x="124366" y="127000"/>
                </a:lnTo>
                <a:lnTo>
                  <a:pt x="163971" y="179370"/>
                </a:lnTo>
                <a:lnTo>
                  <a:pt x="127936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6" name="乗算記号 25"/>
          <p:cNvSpPr/>
          <p:nvPr/>
        </p:nvSpPr>
        <p:spPr>
          <a:xfrm>
            <a:off x="3121200" y="4816440"/>
            <a:ext cx="193680" cy="252360"/>
          </a:xfrm>
          <a:custGeom>
            <a:avLst/>
            <a:gdLst/>
            <a:ahLst/>
            <a:rect l="l" t="t" r="r" b="b"/>
            <a:pathLst>
              <a:path w="193675" h="252413">
                <a:moveTo>
                  <a:pt x="28446" y="74488"/>
                </a:moveTo>
                <a:lnTo>
                  <a:pt x="64586" y="46758"/>
                </a:lnTo>
                <a:lnTo>
                  <a:pt x="96838" y="88792"/>
                </a:lnTo>
                <a:lnTo>
                  <a:pt x="129089" y="46758"/>
                </a:lnTo>
                <a:lnTo>
                  <a:pt x="165229" y="74488"/>
                </a:lnTo>
                <a:lnTo>
                  <a:pt x="125546" y="126207"/>
                </a:lnTo>
                <a:lnTo>
                  <a:pt x="165229" y="177925"/>
                </a:lnTo>
                <a:lnTo>
                  <a:pt x="129089" y="205655"/>
                </a:lnTo>
                <a:lnTo>
                  <a:pt x="96838" y="163621"/>
                </a:lnTo>
                <a:lnTo>
                  <a:pt x="64586" y="205655"/>
                </a:lnTo>
                <a:lnTo>
                  <a:pt x="28446" y="177925"/>
                </a:lnTo>
                <a:lnTo>
                  <a:pt x="68129" y="126207"/>
                </a:lnTo>
                <a:lnTo>
                  <a:pt x="28446" y="74488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7" name="四角形: 角を丸くする 26"/>
          <p:cNvSpPr/>
          <p:nvPr/>
        </p:nvSpPr>
        <p:spPr>
          <a:xfrm>
            <a:off x="2451240" y="4172040"/>
            <a:ext cx="163440" cy="16812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217">
                <a:moveTo>
                  <a:pt x="3600" y="0"/>
                </a:moveTo>
                <a:arcTo wR="3600" hR="3600" stAng="16200000" swAng="-5400000"/>
                <a:lnTo>
                  <a:pt x="0" y="18617"/>
                </a:lnTo>
                <a:arcTo wR="3600" hR="3600" stAng="10800000" swAng="-5400000"/>
                <a:lnTo>
                  <a:pt x="18000" y="22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8" name="四角形: 角を丸くする 27"/>
          <p:cNvSpPr/>
          <p:nvPr/>
        </p:nvSpPr>
        <p:spPr>
          <a:xfrm>
            <a:off x="3152880" y="4565520"/>
            <a:ext cx="162000" cy="16848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480"/>
              <a:gd name="textAreaBottom" fmla="*/ 160560 h 168480"/>
            </a:gdLst>
            <a:ahLst/>
            <a:rect l="textAreaLeft" t="textAreaTop" r="textAreaRight" b="textAreaBottom"/>
            <a:pathLst>
              <a:path w="21600" h="22462">
                <a:moveTo>
                  <a:pt x="3600" y="0"/>
                </a:moveTo>
                <a:arcTo wR="3600" hR="3600" stAng="16200000" swAng="-5400000"/>
                <a:lnTo>
                  <a:pt x="0" y="18862"/>
                </a:lnTo>
                <a:arcTo wR="3600" hR="3600" stAng="10800000" swAng="-5400000"/>
                <a:lnTo>
                  <a:pt x="18000" y="224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9" name="四角形: 角を丸くする 28"/>
          <p:cNvSpPr/>
          <p:nvPr/>
        </p:nvSpPr>
        <p:spPr>
          <a:xfrm>
            <a:off x="2824200" y="5156280"/>
            <a:ext cx="162000" cy="16812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414">
                <a:moveTo>
                  <a:pt x="3600" y="0"/>
                </a:moveTo>
                <a:arcTo wR="3600" hR="3600" stAng="16200000" swAng="-5400000"/>
                <a:lnTo>
                  <a:pt x="0" y="18814"/>
                </a:lnTo>
                <a:arcTo wR="3600" hR="3600" stAng="10800000" swAng="-5400000"/>
                <a:lnTo>
                  <a:pt x="18000" y="22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0" name="楕円 29"/>
          <p:cNvSpPr/>
          <p:nvPr/>
        </p:nvSpPr>
        <p:spPr>
          <a:xfrm>
            <a:off x="1679400" y="3581280"/>
            <a:ext cx="306720" cy="297000"/>
          </a:xfrm>
          <a:prstGeom prst="ellipse">
            <a:avLst/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1" name="楕円 30"/>
          <p:cNvSpPr/>
          <p:nvPr/>
        </p:nvSpPr>
        <p:spPr>
          <a:xfrm>
            <a:off x="1835280" y="4110120"/>
            <a:ext cx="163440" cy="158760"/>
          </a:xfrm>
          <a:prstGeom prst="ellipse">
            <a:avLst/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2" name="楕円 31"/>
          <p:cNvSpPr/>
          <p:nvPr/>
        </p:nvSpPr>
        <p:spPr>
          <a:xfrm>
            <a:off x="1941480" y="5234040"/>
            <a:ext cx="162000" cy="160200"/>
          </a:xfrm>
          <a:prstGeom prst="ellipse">
            <a:avLst/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3" name="二等辺三角形 32"/>
          <p:cNvSpPr/>
          <p:nvPr/>
        </p:nvSpPr>
        <p:spPr>
          <a:xfrm>
            <a:off x="3127320" y="5200560"/>
            <a:ext cx="341280" cy="254160"/>
          </a:xfrm>
          <a:prstGeom prst="triangle">
            <a:avLst>
              <a:gd name="adj" fmla="val 50000"/>
            </a:avLst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4" name="二等辺三角形 33"/>
          <p:cNvSpPr/>
          <p:nvPr/>
        </p:nvSpPr>
        <p:spPr>
          <a:xfrm>
            <a:off x="2408400" y="3627360"/>
            <a:ext cx="161640" cy="174600"/>
          </a:xfrm>
          <a:prstGeom prst="triangle">
            <a:avLst>
              <a:gd name="adj" fmla="val 50000"/>
            </a:avLst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5" name="二等辺三角形 34"/>
          <p:cNvSpPr/>
          <p:nvPr/>
        </p:nvSpPr>
        <p:spPr>
          <a:xfrm>
            <a:off x="2128680" y="4554360"/>
            <a:ext cx="163800" cy="174960"/>
          </a:xfrm>
          <a:prstGeom prst="triangle">
            <a:avLst>
              <a:gd name="adj" fmla="val 50000"/>
            </a:avLst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6" name="星: 5 pt 35"/>
          <p:cNvSpPr/>
          <p:nvPr/>
        </p:nvSpPr>
        <p:spPr>
          <a:xfrm>
            <a:off x="1677960" y="6040440"/>
            <a:ext cx="374760" cy="358920"/>
          </a:xfrm>
          <a:custGeom>
            <a:avLst/>
            <a:gdLst/>
            <a:ahLst/>
            <a:rect l="l" t="t" r="r" b="b"/>
            <a:pathLst>
              <a:path w="374650" h="358775">
                <a:moveTo>
                  <a:pt x="0" y="137040"/>
                </a:moveTo>
                <a:lnTo>
                  <a:pt x="143104" y="137040"/>
                </a:lnTo>
                <a:lnTo>
                  <a:pt x="187325" y="0"/>
                </a:lnTo>
                <a:lnTo>
                  <a:pt x="231546" y="137040"/>
                </a:lnTo>
                <a:lnTo>
                  <a:pt x="374650" y="137040"/>
                </a:lnTo>
                <a:lnTo>
                  <a:pt x="258876" y="221734"/>
                </a:lnTo>
                <a:lnTo>
                  <a:pt x="303098" y="358774"/>
                </a:lnTo>
                <a:lnTo>
                  <a:pt x="187325" y="274078"/>
                </a:lnTo>
                <a:lnTo>
                  <a:pt x="71552" y="358774"/>
                </a:lnTo>
                <a:lnTo>
                  <a:pt x="115774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7" name="星: 5 pt 36"/>
          <p:cNvSpPr/>
          <p:nvPr/>
        </p:nvSpPr>
        <p:spPr>
          <a:xfrm>
            <a:off x="2859120" y="5514840"/>
            <a:ext cx="163440" cy="173160"/>
          </a:xfrm>
          <a:custGeom>
            <a:avLst/>
            <a:gdLst/>
            <a:ahLst/>
            <a:rect l="l" t="t" r="r" b="b"/>
            <a:pathLst>
              <a:path w="163512" h="173038">
                <a:moveTo>
                  <a:pt x="0" y="66094"/>
                </a:moveTo>
                <a:lnTo>
                  <a:pt x="62456" y="66095"/>
                </a:lnTo>
                <a:lnTo>
                  <a:pt x="81756" y="0"/>
                </a:lnTo>
                <a:lnTo>
                  <a:pt x="101056" y="66095"/>
                </a:lnTo>
                <a:lnTo>
                  <a:pt x="163512" y="66094"/>
                </a:lnTo>
                <a:lnTo>
                  <a:pt x="112983" y="106943"/>
                </a:lnTo>
                <a:lnTo>
                  <a:pt x="132284" y="173038"/>
                </a:lnTo>
                <a:lnTo>
                  <a:pt x="81756" y="132188"/>
                </a:lnTo>
                <a:lnTo>
                  <a:pt x="31228" y="173038"/>
                </a:lnTo>
                <a:lnTo>
                  <a:pt x="50529" y="106943"/>
                </a:lnTo>
                <a:lnTo>
                  <a:pt x="0" y="66094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8" name="星: 5 pt 37"/>
          <p:cNvSpPr/>
          <p:nvPr/>
        </p:nvSpPr>
        <p:spPr>
          <a:xfrm>
            <a:off x="2055960" y="5737320"/>
            <a:ext cx="163440" cy="172800"/>
          </a:xfrm>
          <a:custGeom>
            <a:avLst/>
            <a:gdLst/>
            <a:ahLst/>
            <a:rect l="l" t="t" r="r" b="b"/>
            <a:pathLst>
              <a:path w="163512" h="173038">
                <a:moveTo>
                  <a:pt x="0" y="66094"/>
                </a:moveTo>
                <a:lnTo>
                  <a:pt x="62456" y="66095"/>
                </a:lnTo>
                <a:lnTo>
                  <a:pt x="81756" y="0"/>
                </a:lnTo>
                <a:lnTo>
                  <a:pt x="101056" y="66095"/>
                </a:lnTo>
                <a:lnTo>
                  <a:pt x="163512" y="66094"/>
                </a:lnTo>
                <a:lnTo>
                  <a:pt x="112983" y="106943"/>
                </a:lnTo>
                <a:lnTo>
                  <a:pt x="132284" y="173038"/>
                </a:lnTo>
                <a:lnTo>
                  <a:pt x="81756" y="132188"/>
                </a:lnTo>
                <a:lnTo>
                  <a:pt x="31228" y="173038"/>
                </a:lnTo>
                <a:lnTo>
                  <a:pt x="50529" y="106943"/>
                </a:lnTo>
                <a:lnTo>
                  <a:pt x="0" y="66094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9" name="乗算記号 38"/>
          <p:cNvSpPr/>
          <p:nvPr/>
        </p:nvSpPr>
        <p:spPr>
          <a:xfrm>
            <a:off x="2347920" y="4510080"/>
            <a:ext cx="192240" cy="254160"/>
          </a:xfrm>
          <a:custGeom>
            <a:avLst/>
            <a:gdLst/>
            <a:ahLst/>
            <a:rect l="l" t="t" r="r" b="b"/>
            <a:pathLst>
              <a:path w="192087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5" y="47379"/>
                </a:lnTo>
                <a:lnTo>
                  <a:pt x="163970" y="74630"/>
                </a:lnTo>
                <a:lnTo>
                  <a:pt x="124365" y="127000"/>
                </a:lnTo>
                <a:lnTo>
                  <a:pt x="163970" y="179370"/>
                </a:lnTo>
                <a:lnTo>
                  <a:pt x="127935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0" name="乗算記号 39"/>
          <p:cNvSpPr/>
          <p:nvPr/>
        </p:nvSpPr>
        <p:spPr>
          <a:xfrm>
            <a:off x="2176560" y="5451480"/>
            <a:ext cx="193680" cy="25416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1" name="乗算記号 40"/>
          <p:cNvSpPr/>
          <p:nvPr/>
        </p:nvSpPr>
        <p:spPr>
          <a:xfrm>
            <a:off x="2471760" y="6251400"/>
            <a:ext cx="193680" cy="25416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2" name="乗算記号 41"/>
          <p:cNvSpPr/>
          <p:nvPr/>
        </p:nvSpPr>
        <p:spPr>
          <a:xfrm>
            <a:off x="2325600" y="4853160"/>
            <a:ext cx="193680" cy="25380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3" name="四角形: 角を丸くする 42"/>
          <p:cNvSpPr/>
          <p:nvPr/>
        </p:nvSpPr>
        <p:spPr>
          <a:xfrm>
            <a:off x="2800440" y="4861080"/>
            <a:ext cx="162000" cy="16812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414">
                <a:moveTo>
                  <a:pt x="3600" y="0"/>
                </a:moveTo>
                <a:arcTo wR="3600" hR="3600" stAng="16200000" swAng="-5400000"/>
                <a:lnTo>
                  <a:pt x="0" y="18814"/>
                </a:lnTo>
                <a:arcTo wR="3600" hR="3600" stAng="10800000" swAng="-5400000"/>
                <a:lnTo>
                  <a:pt x="18000" y="22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4" name="四角形: 角を丸くする 43"/>
          <p:cNvSpPr/>
          <p:nvPr/>
        </p:nvSpPr>
        <p:spPr>
          <a:xfrm>
            <a:off x="2513160" y="5303880"/>
            <a:ext cx="163440" cy="16812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217">
                <a:moveTo>
                  <a:pt x="3600" y="0"/>
                </a:moveTo>
                <a:arcTo wR="3600" hR="3600" stAng="16200000" swAng="-5400000"/>
                <a:lnTo>
                  <a:pt x="0" y="18617"/>
                </a:lnTo>
                <a:arcTo wR="3600" hR="3600" stAng="10800000" swAng="-5400000"/>
                <a:lnTo>
                  <a:pt x="18000" y="22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5" name="四角形: 角を丸くする 44"/>
          <p:cNvSpPr/>
          <p:nvPr/>
        </p:nvSpPr>
        <p:spPr>
          <a:xfrm>
            <a:off x="1779480" y="4676760"/>
            <a:ext cx="162000" cy="16812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414">
                <a:moveTo>
                  <a:pt x="3600" y="0"/>
                </a:moveTo>
                <a:arcTo wR="3600" hR="3600" stAng="16200000" swAng="-5400000"/>
                <a:lnTo>
                  <a:pt x="0" y="18814"/>
                </a:lnTo>
                <a:arcTo wR="3600" hR="3600" stAng="10800000" swAng="-5400000"/>
                <a:lnTo>
                  <a:pt x="18000" y="22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6" name="楕円 45"/>
          <p:cNvSpPr/>
          <p:nvPr/>
        </p:nvSpPr>
        <p:spPr>
          <a:xfrm>
            <a:off x="2259000" y="6066000"/>
            <a:ext cx="163440" cy="1602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7" name="楕円 46"/>
          <p:cNvSpPr/>
          <p:nvPr/>
        </p:nvSpPr>
        <p:spPr>
          <a:xfrm>
            <a:off x="2989440" y="4135320"/>
            <a:ext cx="163440" cy="16056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8" name="楕円 47"/>
          <p:cNvSpPr/>
          <p:nvPr/>
        </p:nvSpPr>
        <p:spPr>
          <a:xfrm>
            <a:off x="1989000" y="3875040"/>
            <a:ext cx="163800" cy="15876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9" name="二等辺三角形 48"/>
          <p:cNvSpPr/>
          <p:nvPr/>
        </p:nvSpPr>
        <p:spPr>
          <a:xfrm>
            <a:off x="3100320" y="6070680"/>
            <a:ext cx="163440" cy="17280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0" name="二等辺三角形 49"/>
          <p:cNvSpPr/>
          <p:nvPr/>
        </p:nvSpPr>
        <p:spPr>
          <a:xfrm>
            <a:off x="2114640" y="4097160"/>
            <a:ext cx="163440" cy="17496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1" name="二等辺三角形 50"/>
          <p:cNvSpPr/>
          <p:nvPr/>
        </p:nvSpPr>
        <p:spPr>
          <a:xfrm>
            <a:off x="1822320" y="5491080"/>
            <a:ext cx="163800" cy="17316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2" name="星: 5 pt 51"/>
          <p:cNvSpPr/>
          <p:nvPr/>
        </p:nvSpPr>
        <p:spPr>
          <a:xfrm>
            <a:off x="3070080" y="5708520"/>
            <a:ext cx="163800" cy="174600"/>
          </a:xfrm>
          <a:custGeom>
            <a:avLst/>
            <a:gdLst/>
            <a:ahLst/>
            <a:rect l="l" t="t" r="r" b="b"/>
            <a:pathLst>
              <a:path w="163513" h="174625">
                <a:moveTo>
                  <a:pt x="0" y="66701"/>
                </a:moveTo>
                <a:lnTo>
                  <a:pt x="62457" y="66701"/>
                </a:lnTo>
                <a:lnTo>
                  <a:pt x="81757" y="0"/>
                </a:lnTo>
                <a:lnTo>
                  <a:pt x="101056" y="66701"/>
                </a:lnTo>
                <a:lnTo>
                  <a:pt x="163513" y="66701"/>
                </a:lnTo>
                <a:lnTo>
                  <a:pt x="112984" y="107924"/>
                </a:lnTo>
                <a:lnTo>
                  <a:pt x="132285" y="174625"/>
                </a:lnTo>
                <a:lnTo>
                  <a:pt x="81757" y="133401"/>
                </a:lnTo>
                <a:lnTo>
                  <a:pt x="31228" y="174625"/>
                </a:lnTo>
                <a:lnTo>
                  <a:pt x="50529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3" name="星: 5 pt 52"/>
          <p:cNvSpPr/>
          <p:nvPr/>
        </p:nvSpPr>
        <p:spPr>
          <a:xfrm>
            <a:off x="2924280" y="3641760"/>
            <a:ext cx="163440" cy="174600"/>
          </a:xfrm>
          <a:custGeom>
            <a:avLst/>
            <a:gdLst/>
            <a:ahLst/>
            <a:rect l="l" t="t" r="r" b="b"/>
            <a:pathLst>
              <a:path w="163513" h="174625">
                <a:moveTo>
                  <a:pt x="0" y="66701"/>
                </a:moveTo>
                <a:lnTo>
                  <a:pt x="62457" y="66701"/>
                </a:lnTo>
                <a:lnTo>
                  <a:pt x="81757" y="0"/>
                </a:lnTo>
                <a:lnTo>
                  <a:pt x="101056" y="66701"/>
                </a:lnTo>
                <a:lnTo>
                  <a:pt x="163513" y="66701"/>
                </a:lnTo>
                <a:lnTo>
                  <a:pt x="112984" y="107924"/>
                </a:lnTo>
                <a:lnTo>
                  <a:pt x="132285" y="174625"/>
                </a:lnTo>
                <a:lnTo>
                  <a:pt x="81757" y="133401"/>
                </a:lnTo>
                <a:lnTo>
                  <a:pt x="31228" y="174625"/>
                </a:lnTo>
                <a:lnTo>
                  <a:pt x="50529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4" name="星: 5 pt 53"/>
          <p:cNvSpPr/>
          <p:nvPr/>
        </p:nvSpPr>
        <p:spPr>
          <a:xfrm>
            <a:off x="2708280" y="5959440"/>
            <a:ext cx="162000" cy="174600"/>
          </a:xfrm>
          <a:custGeom>
            <a:avLst/>
            <a:gdLst/>
            <a:ahLst/>
            <a:rect l="l" t="t" r="r" b="b"/>
            <a:pathLst>
              <a:path w="161925" h="174625">
                <a:moveTo>
                  <a:pt x="0" y="66701"/>
                </a:moveTo>
                <a:lnTo>
                  <a:pt x="61850" y="66701"/>
                </a:lnTo>
                <a:lnTo>
                  <a:pt x="80963" y="0"/>
                </a:lnTo>
                <a:lnTo>
                  <a:pt x="100075" y="66701"/>
                </a:lnTo>
                <a:lnTo>
                  <a:pt x="161925" y="66701"/>
                </a:lnTo>
                <a:lnTo>
                  <a:pt x="111887" y="107924"/>
                </a:lnTo>
                <a:lnTo>
                  <a:pt x="131000" y="174625"/>
                </a:lnTo>
                <a:lnTo>
                  <a:pt x="80963" y="133401"/>
                </a:lnTo>
                <a:lnTo>
                  <a:pt x="30925" y="174625"/>
                </a:lnTo>
                <a:lnTo>
                  <a:pt x="50038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5" name="乗算記号 56"/>
          <p:cNvSpPr/>
          <p:nvPr/>
        </p:nvSpPr>
        <p:spPr>
          <a:xfrm>
            <a:off x="5133960" y="3784680"/>
            <a:ext cx="192240" cy="253800"/>
          </a:xfrm>
          <a:custGeom>
            <a:avLst/>
            <a:gdLst/>
            <a:ahLst/>
            <a:rect l="l" t="t" r="r" b="b"/>
            <a:pathLst>
              <a:path w="192088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6" y="47379"/>
                </a:lnTo>
                <a:lnTo>
                  <a:pt x="163971" y="74630"/>
                </a:lnTo>
                <a:lnTo>
                  <a:pt x="124366" y="127000"/>
                </a:lnTo>
                <a:lnTo>
                  <a:pt x="163971" y="179370"/>
                </a:lnTo>
                <a:lnTo>
                  <a:pt x="127936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6" name="乗算記号 57"/>
          <p:cNvSpPr/>
          <p:nvPr/>
        </p:nvSpPr>
        <p:spPr>
          <a:xfrm>
            <a:off x="5729400" y="4600440"/>
            <a:ext cx="193680" cy="252720"/>
          </a:xfrm>
          <a:custGeom>
            <a:avLst/>
            <a:gdLst/>
            <a:ahLst/>
            <a:rect l="l" t="t" r="r" b="b"/>
            <a:pathLst>
              <a:path w="193675" h="252413">
                <a:moveTo>
                  <a:pt x="28446" y="74488"/>
                </a:moveTo>
                <a:lnTo>
                  <a:pt x="64586" y="46758"/>
                </a:lnTo>
                <a:lnTo>
                  <a:pt x="96838" y="88792"/>
                </a:lnTo>
                <a:lnTo>
                  <a:pt x="129089" y="46758"/>
                </a:lnTo>
                <a:lnTo>
                  <a:pt x="165229" y="74488"/>
                </a:lnTo>
                <a:lnTo>
                  <a:pt x="125546" y="126207"/>
                </a:lnTo>
                <a:lnTo>
                  <a:pt x="165229" y="177925"/>
                </a:lnTo>
                <a:lnTo>
                  <a:pt x="129089" y="205655"/>
                </a:lnTo>
                <a:lnTo>
                  <a:pt x="96838" y="163621"/>
                </a:lnTo>
                <a:lnTo>
                  <a:pt x="64586" y="205655"/>
                </a:lnTo>
                <a:lnTo>
                  <a:pt x="28446" y="177925"/>
                </a:lnTo>
                <a:lnTo>
                  <a:pt x="68129" y="126207"/>
                </a:lnTo>
                <a:lnTo>
                  <a:pt x="28446" y="74488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7" name="乗算記号 58"/>
          <p:cNvSpPr/>
          <p:nvPr/>
        </p:nvSpPr>
        <p:spPr>
          <a:xfrm>
            <a:off x="5977080" y="4346640"/>
            <a:ext cx="191880" cy="253800"/>
          </a:xfrm>
          <a:custGeom>
            <a:avLst/>
            <a:gdLst/>
            <a:ahLst/>
            <a:rect l="l" t="t" r="r" b="b"/>
            <a:pathLst>
              <a:path w="192087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5" y="47379"/>
                </a:lnTo>
                <a:lnTo>
                  <a:pt x="163970" y="74630"/>
                </a:lnTo>
                <a:lnTo>
                  <a:pt x="124365" y="127000"/>
                </a:lnTo>
                <a:lnTo>
                  <a:pt x="163970" y="179370"/>
                </a:lnTo>
                <a:lnTo>
                  <a:pt x="127935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8" name="乗算記号 59"/>
          <p:cNvSpPr/>
          <p:nvPr/>
        </p:nvSpPr>
        <p:spPr>
          <a:xfrm>
            <a:off x="5199120" y="4251240"/>
            <a:ext cx="191880" cy="254160"/>
          </a:xfrm>
          <a:custGeom>
            <a:avLst/>
            <a:gdLst/>
            <a:ahLst/>
            <a:rect l="l" t="t" r="r" b="b"/>
            <a:pathLst>
              <a:path w="192087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5" y="47379"/>
                </a:lnTo>
                <a:lnTo>
                  <a:pt x="163970" y="74630"/>
                </a:lnTo>
                <a:lnTo>
                  <a:pt x="124365" y="127000"/>
                </a:lnTo>
                <a:lnTo>
                  <a:pt x="163970" y="179370"/>
                </a:lnTo>
                <a:lnTo>
                  <a:pt x="127935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9" name="四角形: 角を丸くする 60"/>
          <p:cNvSpPr/>
          <p:nvPr/>
        </p:nvSpPr>
        <p:spPr>
          <a:xfrm>
            <a:off x="5710320" y="4083120"/>
            <a:ext cx="162000" cy="16812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414">
                <a:moveTo>
                  <a:pt x="3600" y="0"/>
                </a:moveTo>
                <a:arcTo wR="3600" hR="3600" stAng="16200000" swAng="-5400000"/>
                <a:lnTo>
                  <a:pt x="0" y="18814"/>
                </a:lnTo>
                <a:arcTo wR="3600" hR="3600" stAng="10800000" swAng="-5400000"/>
                <a:lnTo>
                  <a:pt x="18000" y="22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0" name="四角形: 角を丸くする 61"/>
          <p:cNvSpPr/>
          <p:nvPr/>
        </p:nvSpPr>
        <p:spPr>
          <a:xfrm>
            <a:off x="5727600" y="4336920"/>
            <a:ext cx="162000" cy="16848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480"/>
              <a:gd name="textAreaBottom" fmla="*/ 160560 h 168480"/>
            </a:gdLst>
            <a:ahLst/>
            <a:rect l="textAreaLeft" t="textAreaTop" r="textAreaRight" b="textAreaBottom"/>
            <a:pathLst>
              <a:path w="21600" h="22462">
                <a:moveTo>
                  <a:pt x="3600" y="0"/>
                </a:moveTo>
                <a:arcTo wR="3600" hR="3600" stAng="16200000" swAng="-5400000"/>
                <a:lnTo>
                  <a:pt x="0" y="18862"/>
                </a:lnTo>
                <a:arcTo wR="3600" hR="3600" stAng="10800000" swAng="-5400000"/>
                <a:lnTo>
                  <a:pt x="18000" y="224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1" name="四角形: 角を丸くする 62"/>
          <p:cNvSpPr/>
          <p:nvPr/>
        </p:nvSpPr>
        <p:spPr>
          <a:xfrm>
            <a:off x="5979960" y="3821040"/>
            <a:ext cx="162000" cy="16848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480"/>
              <a:gd name="textAreaBottom" fmla="*/ 160560 h 168480"/>
            </a:gdLst>
            <a:ahLst/>
            <a:rect l="textAreaLeft" t="textAreaTop" r="textAreaRight" b="textAreaBottom"/>
            <a:pathLst>
              <a:path w="21600" h="22462">
                <a:moveTo>
                  <a:pt x="3600" y="0"/>
                </a:moveTo>
                <a:arcTo wR="3600" hR="3600" stAng="16200000" swAng="-5400000"/>
                <a:lnTo>
                  <a:pt x="0" y="18862"/>
                </a:lnTo>
                <a:arcTo wR="3600" hR="3600" stAng="10800000" swAng="-5400000"/>
                <a:lnTo>
                  <a:pt x="18000" y="224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2" name="楕円 63"/>
          <p:cNvSpPr/>
          <p:nvPr/>
        </p:nvSpPr>
        <p:spPr>
          <a:xfrm>
            <a:off x="5446800" y="4064040"/>
            <a:ext cx="163440" cy="160200"/>
          </a:xfrm>
          <a:prstGeom prst="ellipse">
            <a:avLst/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3" name="楕円 64"/>
          <p:cNvSpPr/>
          <p:nvPr/>
        </p:nvSpPr>
        <p:spPr>
          <a:xfrm>
            <a:off x="5483160" y="4662360"/>
            <a:ext cx="163440" cy="158760"/>
          </a:xfrm>
          <a:prstGeom prst="ellipse">
            <a:avLst/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4" name="楕円 65"/>
          <p:cNvSpPr/>
          <p:nvPr/>
        </p:nvSpPr>
        <p:spPr>
          <a:xfrm>
            <a:off x="5162400" y="4070520"/>
            <a:ext cx="162000" cy="158760"/>
          </a:xfrm>
          <a:prstGeom prst="ellipse">
            <a:avLst/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5" name="二等辺三角形 66"/>
          <p:cNvSpPr/>
          <p:nvPr/>
        </p:nvSpPr>
        <p:spPr>
          <a:xfrm>
            <a:off x="5985000" y="4071960"/>
            <a:ext cx="163440" cy="174600"/>
          </a:xfrm>
          <a:prstGeom prst="triangle">
            <a:avLst>
              <a:gd name="adj" fmla="val 50000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6" name="二等辺三角形 67"/>
          <p:cNvSpPr/>
          <p:nvPr/>
        </p:nvSpPr>
        <p:spPr>
          <a:xfrm>
            <a:off x="5450040" y="3798720"/>
            <a:ext cx="163440" cy="173160"/>
          </a:xfrm>
          <a:prstGeom prst="triangle">
            <a:avLst>
              <a:gd name="adj" fmla="val 50000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7" name="二等辺三角形 68"/>
          <p:cNvSpPr/>
          <p:nvPr/>
        </p:nvSpPr>
        <p:spPr>
          <a:xfrm>
            <a:off x="5192640" y="4613400"/>
            <a:ext cx="163440" cy="174600"/>
          </a:xfrm>
          <a:prstGeom prst="triangle">
            <a:avLst>
              <a:gd name="adj" fmla="val 50000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8" name="星: 5 pt 69"/>
          <p:cNvSpPr/>
          <p:nvPr/>
        </p:nvSpPr>
        <p:spPr>
          <a:xfrm>
            <a:off x="5713560" y="3798720"/>
            <a:ext cx="163440" cy="173160"/>
          </a:xfrm>
          <a:custGeom>
            <a:avLst/>
            <a:gdLst/>
            <a:ahLst/>
            <a:rect l="l" t="t" r="r" b="b"/>
            <a:pathLst>
              <a:path w="163512" h="173037">
                <a:moveTo>
                  <a:pt x="0" y="66094"/>
                </a:moveTo>
                <a:lnTo>
                  <a:pt x="62456" y="66095"/>
                </a:lnTo>
                <a:lnTo>
                  <a:pt x="81756" y="0"/>
                </a:lnTo>
                <a:lnTo>
                  <a:pt x="101056" y="66095"/>
                </a:lnTo>
                <a:lnTo>
                  <a:pt x="163512" y="66094"/>
                </a:lnTo>
                <a:lnTo>
                  <a:pt x="112983" y="106942"/>
                </a:lnTo>
                <a:lnTo>
                  <a:pt x="132284" y="173037"/>
                </a:lnTo>
                <a:lnTo>
                  <a:pt x="81756" y="132188"/>
                </a:lnTo>
                <a:lnTo>
                  <a:pt x="31228" y="173037"/>
                </a:lnTo>
                <a:lnTo>
                  <a:pt x="50529" y="106942"/>
                </a:lnTo>
                <a:lnTo>
                  <a:pt x="0" y="66094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9" name="星: 5 pt 70"/>
          <p:cNvSpPr/>
          <p:nvPr/>
        </p:nvSpPr>
        <p:spPr>
          <a:xfrm>
            <a:off x="5468760" y="4321080"/>
            <a:ext cx="163800" cy="174600"/>
          </a:xfrm>
          <a:custGeom>
            <a:avLst/>
            <a:gdLst/>
            <a:ahLst/>
            <a:rect l="l" t="t" r="r" b="b"/>
            <a:pathLst>
              <a:path w="163512" h="174625">
                <a:moveTo>
                  <a:pt x="0" y="66701"/>
                </a:moveTo>
                <a:lnTo>
                  <a:pt x="62456" y="66701"/>
                </a:lnTo>
                <a:lnTo>
                  <a:pt x="81756" y="0"/>
                </a:lnTo>
                <a:lnTo>
                  <a:pt x="101056" y="66701"/>
                </a:lnTo>
                <a:lnTo>
                  <a:pt x="163512" y="66701"/>
                </a:lnTo>
                <a:lnTo>
                  <a:pt x="112983" y="107924"/>
                </a:lnTo>
                <a:lnTo>
                  <a:pt x="132284" y="174625"/>
                </a:lnTo>
                <a:lnTo>
                  <a:pt x="81756" y="133401"/>
                </a:lnTo>
                <a:lnTo>
                  <a:pt x="31228" y="174625"/>
                </a:lnTo>
                <a:lnTo>
                  <a:pt x="50529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0" name="星: 5 pt 71"/>
          <p:cNvSpPr/>
          <p:nvPr/>
        </p:nvSpPr>
        <p:spPr>
          <a:xfrm>
            <a:off x="6016680" y="4622760"/>
            <a:ext cx="163440" cy="173160"/>
          </a:xfrm>
          <a:custGeom>
            <a:avLst/>
            <a:gdLst/>
            <a:ahLst/>
            <a:rect l="l" t="t" r="r" b="b"/>
            <a:pathLst>
              <a:path w="163513" h="173038">
                <a:moveTo>
                  <a:pt x="0" y="66094"/>
                </a:moveTo>
                <a:lnTo>
                  <a:pt x="62457" y="66095"/>
                </a:lnTo>
                <a:lnTo>
                  <a:pt x="81757" y="0"/>
                </a:lnTo>
                <a:lnTo>
                  <a:pt x="101056" y="66095"/>
                </a:lnTo>
                <a:lnTo>
                  <a:pt x="163513" y="66094"/>
                </a:lnTo>
                <a:lnTo>
                  <a:pt x="112984" y="106943"/>
                </a:lnTo>
                <a:lnTo>
                  <a:pt x="132285" y="173038"/>
                </a:lnTo>
                <a:lnTo>
                  <a:pt x="81757" y="132188"/>
                </a:lnTo>
                <a:lnTo>
                  <a:pt x="31228" y="173038"/>
                </a:lnTo>
                <a:lnTo>
                  <a:pt x="50529" y="106943"/>
                </a:lnTo>
                <a:lnTo>
                  <a:pt x="0" y="66094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1" name="乗算記号 72"/>
          <p:cNvSpPr/>
          <p:nvPr/>
        </p:nvSpPr>
        <p:spPr>
          <a:xfrm>
            <a:off x="6994440" y="3713040"/>
            <a:ext cx="192240" cy="254160"/>
          </a:xfrm>
          <a:custGeom>
            <a:avLst/>
            <a:gdLst/>
            <a:ahLst/>
            <a:rect l="l" t="t" r="r" b="b"/>
            <a:pathLst>
              <a:path w="192088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6" y="47379"/>
                </a:lnTo>
                <a:lnTo>
                  <a:pt x="163971" y="74630"/>
                </a:lnTo>
                <a:lnTo>
                  <a:pt x="124366" y="127000"/>
                </a:lnTo>
                <a:lnTo>
                  <a:pt x="163971" y="179370"/>
                </a:lnTo>
                <a:lnTo>
                  <a:pt x="127936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2" name="乗算記号 73"/>
          <p:cNvSpPr/>
          <p:nvPr/>
        </p:nvSpPr>
        <p:spPr>
          <a:xfrm>
            <a:off x="7624800" y="4367160"/>
            <a:ext cx="193680" cy="25416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3" name="乗算記号 74"/>
          <p:cNvSpPr/>
          <p:nvPr/>
        </p:nvSpPr>
        <p:spPr>
          <a:xfrm>
            <a:off x="7624800" y="3713040"/>
            <a:ext cx="193680" cy="25416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4" name="乗算記号 75"/>
          <p:cNvSpPr/>
          <p:nvPr/>
        </p:nvSpPr>
        <p:spPr>
          <a:xfrm>
            <a:off x="7015320" y="4351320"/>
            <a:ext cx="191880" cy="254160"/>
          </a:xfrm>
          <a:custGeom>
            <a:avLst/>
            <a:gdLst/>
            <a:ahLst/>
            <a:rect l="l" t="t" r="r" b="b"/>
            <a:pathLst>
              <a:path w="192087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5" y="47379"/>
                </a:lnTo>
                <a:lnTo>
                  <a:pt x="163970" y="74630"/>
                </a:lnTo>
                <a:lnTo>
                  <a:pt x="124365" y="127000"/>
                </a:lnTo>
                <a:lnTo>
                  <a:pt x="163970" y="179370"/>
                </a:lnTo>
                <a:lnTo>
                  <a:pt x="127935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5" name="四角形: 角を丸くする 76"/>
          <p:cNvSpPr/>
          <p:nvPr/>
        </p:nvSpPr>
        <p:spPr>
          <a:xfrm>
            <a:off x="7346880" y="4075200"/>
            <a:ext cx="163440" cy="16812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217">
                <a:moveTo>
                  <a:pt x="3600" y="0"/>
                </a:moveTo>
                <a:arcTo wR="3600" hR="3600" stAng="16200000" swAng="-5400000"/>
                <a:lnTo>
                  <a:pt x="0" y="18617"/>
                </a:lnTo>
                <a:arcTo wR="3600" hR="3600" stAng="10800000" swAng="-5400000"/>
                <a:lnTo>
                  <a:pt x="18000" y="22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6" name="四角形: 角を丸くする 77"/>
          <p:cNvSpPr/>
          <p:nvPr/>
        </p:nvSpPr>
        <p:spPr>
          <a:xfrm>
            <a:off x="7634160" y="4054320"/>
            <a:ext cx="162000" cy="16848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480"/>
              <a:gd name="textAreaBottom" fmla="*/ 160560 h 168480"/>
            </a:gdLst>
            <a:ahLst/>
            <a:rect l="textAreaLeft" t="textAreaTop" r="textAreaRight" b="textAreaBottom"/>
            <a:pathLst>
              <a:path w="21600" h="22462">
                <a:moveTo>
                  <a:pt x="3600" y="0"/>
                </a:moveTo>
                <a:arcTo wR="3600" hR="3600" stAng="16200000" swAng="-5400000"/>
                <a:lnTo>
                  <a:pt x="0" y="18862"/>
                </a:lnTo>
                <a:arcTo wR="3600" hR="3600" stAng="10800000" swAng="-5400000"/>
                <a:lnTo>
                  <a:pt x="18000" y="224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7" name="四角形: 角を丸くする 78"/>
          <p:cNvSpPr/>
          <p:nvPr/>
        </p:nvSpPr>
        <p:spPr>
          <a:xfrm>
            <a:off x="6721560" y="4718160"/>
            <a:ext cx="163440" cy="16812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217">
                <a:moveTo>
                  <a:pt x="3600" y="0"/>
                </a:moveTo>
                <a:arcTo wR="3600" hR="3600" stAng="16200000" swAng="-5400000"/>
                <a:lnTo>
                  <a:pt x="0" y="18617"/>
                </a:lnTo>
                <a:arcTo wR="3600" hR="3600" stAng="10800000" swAng="-5400000"/>
                <a:lnTo>
                  <a:pt x="18000" y="22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8" name="楕円 79"/>
          <p:cNvSpPr/>
          <p:nvPr/>
        </p:nvSpPr>
        <p:spPr>
          <a:xfrm>
            <a:off x="7040520" y="4056120"/>
            <a:ext cx="163440" cy="158760"/>
          </a:xfrm>
          <a:prstGeom prst="ellipse">
            <a:avLst/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9" name="楕円 80"/>
          <p:cNvSpPr/>
          <p:nvPr/>
        </p:nvSpPr>
        <p:spPr>
          <a:xfrm>
            <a:off x="6969240" y="4691160"/>
            <a:ext cx="311040" cy="307800"/>
          </a:xfrm>
          <a:prstGeom prst="ellipse">
            <a:avLst/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0" name="楕円 81"/>
          <p:cNvSpPr/>
          <p:nvPr/>
        </p:nvSpPr>
        <p:spPr>
          <a:xfrm>
            <a:off x="6713640" y="4024440"/>
            <a:ext cx="163440" cy="158760"/>
          </a:xfrm>
          <a:prstGeom prst="ellipse">
            <a:avLst/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1" name="二等辺三角形 82"/>
          <p:cNvSpPr/>
          <p:nvPr/>
        </p:nvSpPr>
        <p:spPr>
          <a:xfrm>
            <a:off x="7315200" y="3753000"/>
            <a:ext cx="162000" cy="174600"/>
          </a:xfrm>
          <a:prstGeom prst="triangle">
            <a:avLst>
              <a:gd name="adj" fmla="val 50000"/>
            </a:avLst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2" name="二等辺三角形 83"/>
          <p:cNvSpPr/>
          <p:nvPr/>
        </p:nvSpPr>
        <p:spPr>
          <a:xfrm>
            <a:off x="6734160" y="4384800"/>
            <a:ext cx="163440" cy="174600"/>
          </a:xfrm>
          <a:prstGeom prst="triangle">
            <a:avLst>
              <a:gd name="adj" fmla="val 50000"/>
            </a:avLst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3" name="二等辺三角形 84"/>
          <p:cNvSpPr/>
          <p:nvPr/>
        </p:nvSpPr>
        <p:spPr>
          <a:xfrm>
            <a:off x="7643880" y="4702320"/>
            <a:ext cx="366480" cy="253800"/>
          </a:xfrm>
          <a:prstGeom prst="triangle">
            <a:avLst>
              <a:gd name="adj" fmla="val 50000"/>
            </a:avLst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4" name="星: 5 pt 85"/>
          <p:cNvSpPr/>
          <p:nvPr/>
        </p:nvSpPr>
        <p:spPr>
          <a:xfrm>
            <a:off x="6554880" y="3573360"/>
            <a:ext cx="330120" cy="319320"/>
          </a:xfrm>
          <a:custGeom>
            <a:avLst/>
            <a:gdLst/>
            <a:ahLst/>
            <a:rect l="l" t="t" r="r" b="b"/>
            <a:pathLst>
              <a:path w="330200" h="319087">
                <a:moveTo>
                  <a:pt x="0" y="121880"/>
                </a:moveTo>
                <a:lnTo>
                  <a:pt x="126126" y="121881"/>
                </a:lnTo>
                <a:lnTo>
                  <a:pt x="165100" y="0"/>
                </a:lnTo>
                <a:lnTo>
                  <a:pt x="204074" y="121881"/>
                </a:lnTo>
                <a:lnTo>
                  <a:pt x="330200" y="121880"/>
                </a:lnTo>
                <a:lnTo>
                  <a:pt x="228161" y="197206"/>
                </a:lnTo>
                <a:lnTo>
                  <a:pt x="267137" y="319086"/>
                </a:lnTo>
                <a:lnTo>
                  <a:pt x="165100" y="243759"/>
                </a:lnTo>
                <a:lnTo>
                  <a:pt x="63063" y="319086"/>
                </a:lnTo>
                <a:lnTo>
                  <a:pt x="102039" y="197206"/>
                </a:lnTo>
                <a:lnTo>
                  <a:pt x="0" y="121880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5" name="星: 5 pt 86"/>
          <p:cNvSpPr/>
          <p:nvPr/>
        </p:nvSpPr>
        <p:spPr>
          <a:xfrm>
            <a:off x="7356600" y="4421160"/>
            <a:ext cx="163440" cy="174600"/>
          </a:xfrm>
          <a:custGeom>
            <a:avLst/>
            <a:gdLst/>
            <a:ahLst/>
            <a:rect l="l" t="t" r="r" b="b"/>
            <a:pathLst>
              <a:path w="163513" h="174625">
                <a:moveTo>
                  <a:pt x="0" y="66701"/>
                </a:moveTo>
                <a:lnTo>
                  <a:pt x="62457" y="66701"/>
                </a:lnTo>
                <a:lnTo>
                  <a:pt x="81757" y="0"/>
                </a:lnTo>
                <a:lnTo>
                  <a:pt x="101056" y="66701"/>
                </a:lnTo>
                <a:lnTo>
                  <a:pt x="163513" y="66701"/>
                </a:lnTo>
                <a:lnTo>
                  <a:pt x="112984" y="107924"/>
                </a:lnTo>
                <a:lnTo>
                  <a:pt x="132285" y="174625"/>
                </a:lnTo>
                <a:lnTo>
                  <a:pt x="81757" y="133401"/>
                </a:lnTo>
                <a:lnTo>
                  <a:pt x="31228" y="174625"/>
                </a:lnTo>
                <a:lnTo>
                  <a:pt x="50529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6" name="星: 5 pt 87"/>
          <p:cNvSpPr/>
          <p:nvPr/>
        </p:nvSpPr>
        <p:spPr>
          <a:xfrm>
            <a:off x="7353360" y="4718160"/>
            <a:ext cx="162000" cy="172800"/>
          </a:xfrm>
          <a:custGeom>
            <a:avLst/>
            <a:gdLst/>
            <a:ahLst/>
            <a:rect l="l" t="t" r="r" b="b"/>
            <a:pathLst>
              <a:path w="161925" h="173038">
                <a:moveTo>
                  <a:pt x="0" y="66094"/>
                </a:moveTo>
                <a:lnTo>
                  <a:pt x="61850" y="66095"/>
                </a:lnTo>
                <a:lnTo>
                  <a:pt x="80963" y="0"/>
                </a:lnTo>
                <a:lnTo>
                  <a:pt x="100075" y="66095"/>
                </a:lnTo>
                <a:lnTo>
                  <a:pt x="161925" y="66094"/>
                </a:lnTo>
                <a:lnTo>
                  <a:pt x="111887" y="106943"/>
                </a:lnTo>
                <a:lnTo>
                  <a:pt x="131000" y="173038"/>
                </a:lnTo>
                <a:lnTo>
                  <a:pt x="80963" y="132188"/>
                </a:lnTo>
                <a:lnTo>
                  <a:pt x="30925" y="173038"/>
                </a:lnTo>
                <a:lnTo>
                  <a:pt x="50038" y="106943"/>
                </a:lnTo>
                <a:lnTo>
                  <a:pt x="0" y="66094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7" name="乗算記号 88"/>
          <p:cNvSpPr/>
          <p:nvPr/>
        </p:nvSpPr>
        <p:spPr>
          <a:xfrm>
            <a:off x="9009000" y="3749760"/>
            <a:ext cx="193680" cy="25380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8" name="乗算記号 89"/>
          <p:cNvSpPr/>
          <p:nvPr/>
        </p:nvSpPr>
        <p:spPr>
          <a:xfrm>
            <a:off x="9274320" y="4352760"/>
            <a:ext cx="191880" cy="254160"/>
          </a:xfrm>
          <a:custGeom>
            <a:avLst/>
            <a:gdLst/>
            <a:ahLst/>
            <a:rect l="l" t="t" r="r" b="b"/>
            <a:pathLst>
              <a:path w="192088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6" y="47379"/>
                </a:lnTo>
                <a:lnTo>
                  <a:pt x="163971" y="74630"/>
                </a:lnTo>
                <a:lnTo>
                  <a:pt x="124366" y="127000"/>
                </a:lnTo>
                <a:lnTo>
                  <a:pt x="163971" y="179370"/>
                </a:lnTo>
                <a:lnTo>
                  <a:pt x="127936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9" name="乗算記号 90"/>
          <p:cNvSpPr/>
          <p:nvPr/>
        </p:nvSpPr>
        <p:spPr>
          <a:xfrm>
            <a:off x="9304200" y="4052880"/>
            <a:ext cx="192240" cy="254160"/>
          </a:xfrm>
          <a:custGeom>
            <a:avLst/>
            <a:gdLst/>
            <a:ahLst/>
            <a:rect l="l" t="t" r="r" b="b"/>
            <a:pathLst>
              <a:path w="192087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5" y="47379"/>
                </a:lnTo>
                <a:lnTo>
                  <a:pt x="163970" y="74630"/>
                </a:lnTo>
                <a:lnTo>
                  <a:pt x="124365" y="127000"/>
                </a:lnTo>
                <a:lnTo>
                  <a:pt x="163970" y="179370"/>
                </a:lnTo>
                <a:lnTo>
                  <a:pt x="127935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0" name="乗算記号 91"/>
          <p:cNvSpPr/>
          <p:nvPr/>
        </p:nvSpPr>
        <p:spPr>
          <a:xfrm>
            <a:off x="8737560" y="4662360"/>
            <a:ext cx="193680" cy="25416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1" name="四角形: 角を丸くする 92"/>
          <p:cNvSpPr/>
          <p:nvPr/>
        </p:nvSpPr>
        <p:spPr>
          <a:xfrm>
            <a:off x="9320040" y="4664160"/>
            <a:ext cx="163800" cy="168120"/>
          </a:xfrm>
          <a:custGeom>
            <a:avLst/>
            <a:gdLst>
              <a:gd name="textAreaLeft" fmla="*/ 7920 w 163800"/>
              <a:gd name="textAreaRight" fmla="*/ 155880 w 16380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168">
                <a:moveTo>
                  <a:pt x="3600" y="0"/>
                </a:moveTo>
                <a:arcTo wR="3600" hR="3600" stAng="16200000" swAng="-5400000"/>
                <a:lnTo>
                  <a:pt x="0" y="18568"/>
                </a:lnTo>
                <a:arcTo wR="3600" hR="3600" stAng="10800000" swAng="-5400000"/>
                <a:lnTo>
                  <a:pt x="18000" y="221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2" name="四角形: 角を丸くする 93"/>
          <p:cNvSpPr/>
          <p:nvPr/>
        </p:nvSpPr>
        <p:spPr>
          <a:xfrm>
            <a:off x="8763120" y="3745080"/>
            <a:ext cx="161640" cy="168120"/>
          </a:xfrm>
          <a:custGeom>
            <a:avLst/>
            <a:gdLst>
              <a:gd name="textAreaLeft" fmla="*/ 7560 w 161640"/>
              <a:gd name="textAreaRight" fmla="*/ 154080 w 161640"/>
              <a:gd name="textAreaTop" fmla="*/ 7560 h 168120"/>
              <a:gd name="textAreaBottom" fmla="*/ 160560 h 168120"/>
            </a:gdLst>
            <a:ahLst/>
            <a:rect l="textAreaLeft" t="textAreaTop" r="textAreaRight" b="textAreaBottom"/>
            <a:pathLst>
              <a:path w="21600" h="22464">
                <a:moveTo>
                  <a:pt x="3600" y="0"/>
                </a:moveTo>
                <a:arcTo wR="3600" hR="3600" stAng="16200000" swAng="-5400000"/>
                <a:lnTo>
                  <a:pt x="0" y="18864"/>
                </a:lnTo>
                <a:arcTo wR="3600" hR="3600" stAng="10800000" swAng="-5400000"/>
                <a:lnTo>
                  <a:pt x="18000" y="22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3" name="四角形: 角を丸くする 94"/>
          <p:cNvSpPr/>
          <p:nvPr/>
        </p:nvSpPr>
        <p:spPr>
          <a:xfrm>
            <a:off x="8507520" y="4726080"/>
            <a:ext cx="161640" cy="168120"/>
          </a:xfrm>
          <a:custGeom>
            <a:avLst/>
            <a:gdLst>
              <a:gd name="textAreaLeft" fmla="*/ 7560 w 161640"/>
              <a:gd name="textAreaRight" fmla="*/ 154080 w 161640"/>
              <a:gd name="textAreaTop" fmla="*/ 7560 h 168120"/>
              <a:gd name="textAreaBottom" fmla="*/ 160560 h 168120"/>
            </a:gdLst>
            <a:ahLst/>
            <a:rect l="textAreaLeft" t="textAreaTop" r="textAreaRight" b="textAreaBottom"/>
            <a:pathLst>
              <a:path w="21600" h="22464">
                <a:moveTo>
                  <a:pt x="3600" y="0"/>
                </a:moveTo>
                <a:arcTo wR="3600" hR="3600" stAng="16200000" swAng="-5400000"/>
                <a:lnTo>
                  <a:pt x="0" y="18864"/>
                </a:lnTo>
                <a:arcTo wR="3600" hR="3600" stAng="10800000" swAng="-5400000"/>
                <a:lnTo>
                  <a:pt x="18000" y="22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4" name="楕円 95"/>
          <p:cNvSpPr/>
          <p:nvPr/>
        </p:nvSpPr>
        <p:spPr>
          <a:xfrm>
            <a:off x="8756640" y="4048200"/>
            <a:ext cx="162000" cy="15876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5" name="楕円 96"/>
          <p:cNvSpPr/>
          <p:nvPr/>
        </p:nvSpPr>
        <p:spPr>
          <a:xfrm>
            <a:off x="9051840" y="4691160"/>
            <a:ext cx="162000" cy="1602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6" name="楕円 97"/>
          <p:cNvSpPr/>
          <p:nvPr/>
        </p:nvSpPr>
        <p:spPr>
          <a:xfrm>
            <a:off x="8501040" y="4051440"/>
            <a:ext cx="163440" cy="1602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7" name="二等辺三角形 98"/>
          <p:cNvSpPr/>
          <p:nvPr/>
        </p:nvSpPr>
        <p:spPr>
          <a:xfrm>
            <a:off x="9304200" y="3814920"/>
            <a:ext cx="162000" cy="17460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8" name="二等辺三角形 99"/>
          <p:cNvSpPr/>
          <p:nvPr/>
        </p:nvSpPr>
        <p:spPr>
          <a:xfrm>
            <a:off x="8477280" y="4352760"/>
            <a:ext cx="163440" cy="17496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9" name="二等辺三角形 100"/>
          <p:cNvSpPr/>
          <p:nvPr/>
        </p:nvSpPr>
        <p:spPr>
          <a:xfrm>
            <a:off x="8761320" y="4330800"/>
            <a:ext cx="163440" cy="17460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0" name="星: 5 pt 101"/>
          <p:cNvSpPr/>
          <p:nvPr/>
        </p:nvSpPr>
        <p:spPr>
          <a:xfrm>
            <a:off x="8518680" y="3711600"/>
            <a:ext cx="161640" cy="174600"/>
          </a:xfrm>
          <a:custGeom>
            <a:avLst/>
            <a:gdLst/>
            <a:ahLst/>
            <a:rect l="l" t="t" r="r" b="b"/>
            <a:pathLst>
              <a:path w="161925" h="174625">
                <a:moveTo>
                  <a:pt x="0" y="66701"/>
                </a:moveTo>
                <a:lnTo>
                  <a:pt x="61850" y="66701"/>
                </a:lnTo>
                <a:lnTo>
                  <a:pt x="80963" y="0"/>
                </a:lnTo>
                <a:lnTo>
                  <a:pt x="100075" y="66701"/>
                </a:lnTo>
                <a:lnTo>
                  <a:pt x="161925" y="66701"/>
                </a:lnTo>
                <a:lnTo>
                  <a:pt x="111887" y="107924"/>
                </a:lnTo>
                <a:lnTo>
                  <a:pt x="131000" y="174625"/>
                </a:lnTo>
                <a:lnTo>
                  <a:pt x="80963" y="133401"/>
                </a:lnTo>
                <a:lnTo>
                  <a:pt x="30925" y="174625"/>
                </a:lnTo>
                <a:lnTo>
                  <a:pt x="50038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1" name="星: 5 pt 102"/>
          <p:cNvSpPr/>
          <p:nvPr/>
        </p:nvSpPr>
        <p:spPr>
          <a:xfrm>
            <a:off x="9037800" y="4349880"/>
            <a:ext cx="161640" cy="174600"/>
          </a:xfrm>
          <a:custGeom>
            <a:avLst/>
            <a:gdLst/>
            <a:ahLst/>
            <a:rect l="l" t="t" r="r" b="b"/>
            <a:pathLst>
              <a:path w="161925" h="174625">
                <a:moveTo>
                  <a:pt x="0" y="66701"/>
                </a:moveTo>
                <a:lnTo>
                  <a:pt x="61850" y="66701"/>
                </a:lnTo>
                <a:lnTo>
                  <a:pt x="80963" y="0"/>
                </a:lnTo>
                <a:lnTo>
                  <a:pt x="100075" y="66701"/>
                </a:lnTo>
                <a:lnTo>
                  <a:pt x="161925" y="66701"/>
                </a:lnTo>
                <a:lnTo>
                  <a:pt x="111887" y="107924"/>
                </a:lnTo>
                <a:lnTo>
                  <a:pt x="131000" y="174625"/>
                </a:lnTo>
                <a:lnTo>
                  <a:pt x="80963" y="133401"/>
                </a:lnTo>
                <a:lnTo>
                  <a:pt x="30925" y="174625"/>
                </a:lnTo>
                <a:lnTo>
                  <a:pt x="50038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2" name="星: 5 pt 103"/>
          <p:cNvSpPr/>
          <p:nvPr/>
        </p:nvSpPr>
        <p:spPr>
          <a:xfrm>
            <a:off x="8999640" y="4033800"/>
            <a:ext cx="163440" cy="173160"/>
          </a:xfrm>
          <a:custGeom>
            <a:avLst/>
            <a:gdLst/>
            <a:ahLst/>
            <a:rect l="l" t="t" r="r" b="b"/>
            <a:pathLst>
              <a:path w="163512" h="173037">
                <a:moveTo>
                  <a:pt x="0" y="66094"/>
                </a:moveTo>
                <a:lnTo>
                  <a:pt x="62456" y="66095"/>
                </a:lnTo>
                <a:lnTo>
                  <a:pt x="81756" y="0"/>
                </a:lnTo>
                <a:lnTo>
                  <a:pt x="101056" y="66095"/>
                </a:lnTo>
                <a:lnTo>
                  <a:pt x="163512" y="66094"/>
                </a:lnTo>
                <a:lnTo>
                  <a:pt x="112983" y="106942"/>
                </a:lnTo>
                <a:lnTo>
                  <a:pt x="132284" y="173037"/>
                </a:lnTo>
                <a:lnTo>
                  <a:pt x="81756" y="132188"/>
                </a:lnTo>
                <a:lnTo>
                  <a:pt x="31228" y="173037"/>
                </a:lnTo>
                <a:lnTo>
                  <a:pt x="50529" y="106942"/>
                </a:lnTo>
                <a:lnTo>
                  <a:pt x="0" y="66094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3" name="矢印: 右 104"/>
          <p:cNvSpPr/>
          <p:nvPr/>
        </p:nvSpPr>
        <p:spPr>
          <a:xfrm>
            <a:off x="4070520" y="4264200"/>
            <a:ext cx="307800" cy="1728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ffff00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4" name="テキスト ボックス 105"/>
          <p:cNvSpPr/>
          <p:nvPr/>
        </p:nvSpPr>
        <p:spPr>
          <a:xfrm>
            <a:off x="3925800" y="374184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色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5" name="矢印: 右 106"/>
          <p:cNvSpPr/>
          <p:nvPr/>
        </p:nvSpPr>
        <p:spPr>
          <a:xfrm>
            <a:off x="4013280" y="5888160"/>
            <a:ext cx="307800" cy="1746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ff00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6" name="テキスト ボックス 107"/>
          <p:cNvSpPr/>
          <p:nvPr/>
        </p:nvSpPr>
        <p:spPr>
          <a:xfrm>
            <a:off x="3914640" y="52880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7" name="乗算記号 108"/>
          <p:cNvSpPr/>
          <p:nvPr/>
        </p:nvSpPr>
        <p:spPr>
          <a:xfrm>
            <a:off x="6132600" y="5450040"/>
            <a:ext cx="191880" cy="253800"/>
          </a:xfrm>
          <a:custGeom>
            <a:avLst/>
            <a:gdLst/>
            <a:ahLst/>
            <a:rect l="l" t="t" r="r" b="b"/>
            <a:pathLst>
              <a:path w="192087" h="254000">
                <a:moveTo>
                  <a:pt x="28117" y="74630"/>
                </a:moveTo>
                <a:lnTo>
                  <a:pt x="64152" y="47379"/>
                </a:lnTo>
                <a:lnTo>
                  <a:pt x="96044" y="89550"/>
                </a:lnTo>
                <a:lnTo>
                  <a:pt x="127935" y="47379"/>
                </a:lnTo>
                <a:lnTo>
                  <a:pt x="163970" y="74630"/>
                </a:lnTo>
                <a:lnTo>
                  <a:pt x="124365" y="127000"/>
                </a:lnTo>
                <a:lnTo>
                  <a:pt x="163970" y="179370"/>
                </a:lnTo>
                <a:lnTo>
                  <a:pt x="127935" y="206621"/>
                </a:lnTo>
                <a:lnTo>
                  <a:pt x="96044" y="164450"/>
                </a:lnTo>
                <a:lnTo>
                  <a:pt x="64152" y="206621"/>
                </a:lnTo>
                <a:lnTo>
                  <a:pt x="28117" y="179370"/>
                </a:lnTo>
                <a:lnTo>
                  <a:pt x="67722" y="127000"/>
                </a:lnTo>
                <a:lnTo>
                  <a:pt x="28117" y="74630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8" name="乗算記号 109"/>
          <p:cNvSpPr/>
          <p:nvPr/>
        </p:nvSpPr>
        <p:spPr>
          <a:xfrm>
            <a:off x="6824520" y="6094440"/>
            <a:ext cx="193680" cy="25380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9" name="乗算記号 110"/>
          <p:cNvSpPr/>
          <p:nvPr/>
        </p:nvSpPr>
        <p:spPr>
          <a:xfrm>
            <a:off x="6512040" y="6450120"/>
            <a:ext cx="193680" cy="25380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0" name="乗算記号 111"/>
          <p:cNvSpPr/>
          <p:nvPr/>
        </p:nvSpPr>
        <p:spPr>
          <a:xfrm>
            <a:off x="6478560" y="5772240"/>
            <a:ext cx="193680" cy="25380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1" name="四角形: 角を丸くする 112"/>
          <p:cNvSpPr/>
          <p:nvPr/>
        </p:nvSpPr>
        <p:spPr>
          <a:xfrm>
            <a:off x="10115640" y="5535720"/>
            <a:ext cx="163440" cy="16812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217">
                <a:moveTo>
                  <a:pt x="3600" y="0"/>
                </a:moveTo>
                <a:arcTo wR="3600" hR="3600" stAng="16200000" swAng="-5400000"/>
                <a:lnTo>
                  <a:pt x="0" y="18617"/>
                </a:lnTo>
                <a:arcTo wR="3600" hR="3600" stAng="10800000" swAng="-5400000"/>
                <a:lnTo>
                  <a:pt x="18000" y="22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2" name="四角形: 角を丸くする 113"/>
          <p:cNvSpPr/>
          <p:nvPr/>
        </p:nvSpPr>
        <p:spPr>
          <a:xfrm>
            <a:off x="10186920" y="6045120"/>
            <a:ext cx="162000" cy="16848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480"/>
              <a:gd name="textAreaBottom" fmla="*/ 160560 h 168480"/>
            </a:gdLst>
            <a:ahLst/>
            <a:rect l="textAreaLeft" t="textAreaTop" r="textAreaRight" b="textAreaBottom"/>
            <a:pathLst>
              <a:path w="21600" h="22462">
                <a:moveTo>
                  <a:pt x="3600" y="0"/>
                </a:moveTo>
                <a:arcTo wR="3600" hR="3600" stAng="16200000" swAng="-5400000"/>
                <a:lnTo>
                  <a:pt x="0" y="18862"/>
                </a:lnTo>
                <a:arcTo wR="3600" hR="3600" stAng="10800000" swAng="-5400000"/>
                <a:lnTo>
                  <a:pt x="18000" y="224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3" name="四角形: 角を丸くする 114"/>
          <p:cNvSpPr/>
          <p:nvPr/>
        </p:nvSpPr>
        <p:spPr>
          <a:xfrm>
            <a:off x="9825120" y="5508720"/>
            <a:ext cx="162000" cy="16812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414">
                <a:moveTo>
                  <a:pt x="3600" y="0"/>
                </a:moveTo>
                <a:arcTo wR="3600" hR="3600" stAng="16200000" swAng="-5400000"/>
                <a:lnTo>
                  <a:pt x="0" y="18814"/>
                </a:lnTo>
                <a:arcTo wR="3600" hR="3600" stAng="10800000" swAng="-5400000"/>
                <a:lnTo>
                  <a:pt x="18000" y="22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4" name="楕円 115"/>
          <p:cNvSpPr/>
          <p:nvPr/>
        </p:nvSpPr>
        <p:spPr>
          <a:xfrm>
            <a:off x="7577280" y="6595920"/>
            <a:ext cx="163440" cy="160560"/>
          </a:xfrm>
          <a:prstGeom prst="ellipse">
            <a:avLst/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5" name="楕円 116"/>
          <p:cNvSpPr/>
          <p:nvPr/>
        </p:nvSpPr>
        <p:spPr>
          <a:xfrm>
            <a:off x="7875720" y="5784840"/>
            <a:ext cx="163440" cy="158760"/>
          </a:xfrm>
          <a:prstGeom prst="ellipse">
            <a:avLst/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6" name="楕円 117"/>
          <p:cNvSpPr/>
          <p:nvPr/>
        </p:nvSpPr>
        <p:spPr>
          <a:xfrm>
            <a:off x="7570800" y="5459400"/>
            <a:ext cx="163440" cy="160200"/>
          </a:xfrm>
          <a:prstGeom prst="ellipse">
            <a:avLst/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7" name="二等辺三角形 118"/>
          <p:cNvSpPr/>
          <p:nvPr/>
        </p:nvSpPr>
        <p:spPr>
          <a:xfrm>
            <a:off x="9282240" y="5522760"/>
            <a:ext cx="163440" cy="174600"/>
          </a:xfrm>
          <a:prstGeom prst="triangle">
            <a:avLst>
              <a:gd name="adj" fmla="val 50000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8" name="二等辺三角形 119"/>
          <p:cNvSpPr/>
          <p:nvPr/>
        </p:nvSpPr>
        <p:spPr>
          <a:xfrm>
            <a:off x="9051840" y="6164280"/>
            <a:ext cx="162000" cy="174600"/>
          </a:xfrm>
          <a:prstGeom prst="triangle">
            <a:avLst>
              <a:gd name="adj" fmla="val 50000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9" name="二等辺三角形 120"/>
          <p:cNvSpPr/>
          <p:nvPr/>
        </p:nvSpPr>
        <p:spPr>
          <a:xfrm>
            <a:off x="8664480" y="5489640"/>
            <a:ext cx="163440" cy="172800"/>
          </a:xfrm>
          <a:prstGeom prst="triangle">
            <a:avLst>
              <a:gd name="adj" fmla="val 50000"/>
            </a:avLst>
          </a:pr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0" name="星: 5 pt 121"/>
          <p:cNvSpPr/>
          <p:nvPr/>
        </p:nvSpPr>
        <p:spPr>
          <a:xfrm>
            <a:off x="5162400" y="6127920"/>
            <a:ext cx="162000" cy="174600"/>
          </a:xfrm>
          <a:custGeom>
            <a:avLst/>
            <a:gdLst/>
            <a:ahLst/>
            <a:rect l="l" t="t" r="r" b="b"/>
            <a:pathLst>
              <a:path w="161925" h="174625">
                <a:moveTo>
                  <a:pt x="0" y="66701"/>
                </a:moveTo>
                <a:lnTo>
                  <a:pt x="61850" y="66701"/>
                </a:lnTo>
                <a:lnTo>
                  <a:pt x="80963" y="0"/>
                </a:lnTo>
                <a:lnTo>
                  <a:pt x="100075" y="66701"/>
                </a:lnTo>
                <a:lnTo>
                  <a:pt x="161925" y="66701"/>
                </a:lnTo>
                <a:lnTo>
                  <a:pt x="111887" y="107924"/>
                </a:lnTo>
                <a:lnTo>
                  <a:pt x="131000" y="174625"/>
                </a:lnTo>
                <a:lnTo>
                  <a:pt x="80963" y="133401"/>
                </a:lnTo>
                <a:lnTo>
                  <a:pt x="30925" y="174625"/>
                </a:lnTo>
                <a:lnTo>
                  <a:pt x="50038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1" name="星: 5 pt 122"/>
          <p:cNvSpPr/>
          <p:nvPr/>
        </p:nvSpPr>
        <p:spPr>
          <a:xfrm>
            <a:off x="5162400" y="5781600"/>
            <a:ext cx="162000" cy="173160"/>
          </a:xfrm>
          <a:custGeom>
            <a:avLst/>
            <a:gdLst/>
            <a:ahLst/>
            <a:rect l="l" t="t" r="r" b="b"/>
            <a:pathLst>
              <a:path w="161925" h="173038">
                <a:moveTo>
                  <a:pt x="0" y="66094"/>
                </a:moveTo>
                <a:lnTo>
                  <a:pt x="61850" y="66095"/>
                </a:lnTo>
                <a:lnTo>
                  <a:pt x="80963" y="0"/>
                </a:lnTo>
                <a:lnTo>
                  <a:pt x="100075" y="66095"/>
                </a:lnTo>
                <a:lnTo>
                  <a:pt x="161925" y="66094"/>
                </a:lnTo>
                <a:lnTo>
                  <a:pt x="111887" y="106943"/>
                </a:lnTo>
                <a:lnTo>
                  <a:pt x="131000" y="173038"/>
                </a:lnTo>
                <a:lnTo>
                  <a:pt x="80963" y="132188"/>
                </a:lnTo>
                <a:lnTo>
                  <a:pt x="30925" y="173038"/>
                </a:lnTo>
                <a:lnTo>
                  <a:pt x="50038" y="106943"/>
                </a:lnTo>
                <a:lnTo>
                  <a:pt x="0" y="66094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2" name="星: 5 pt 123"/>
          <p:cNvSpPr/>
          <p:nvPr/>
        </p:nvSpPr>
        <p:spPr>
          <a:xfrm>
            <a:off x="5478480" y="5425920"/>
            <a:ext cx="163440" cy="174960"/>
          </a:xfrm>
          <a:custGeom>
            <a:avLst/>
            <a:gdLst/>
            <a:ahLst/>
            <a:rect l="l" t="t" r="r" b="b"/>
            <a:pathLst>
              <a:path w="163512" h="174625">
                <a:moveTo>
                  <a:pt x="0" y="66701"/>
                </a:moveTo>
                <a:lnTo>
                  <a:pt x="62456" y="66701"/>
                </a:lnTo>
                <a:lnTo>
                  <a:pt x="81756" y="0"/>
                </a:lnTo>
                <a:lnTo>
                  <a:pt x="101056" y="66701"/>
                </a:lnTo>
                <a:lnTo>
                  <a:pt x="163512" y="66701"/>
                </a:lnTo>
                <a:lnTo>
                  <a:pt x="112983" y="107924"/>
                </a:lnTo>
                <a:lnTo>
                  <a:pt x="132284" y="174625"/>
                </a:lnTo>
                <a:lnTo>
                  <a:pt x="81756" y="133401"/>
                </a:lnTo>
                <a:lnTo>
                  <a:pt x="31228" y="174625"/>
                </a:lnTo>
                <a:lnTo>
                  <a:pt x="50529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156082"/>
          </a:solidFill>
          <a:ln w="19080">
            <a:solidFill>
              <a:srgbClr val="042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3" name="乗算記号 124"/>
          <p:cNvSpPr/>
          <p:nvPr/>
        </p:nvSpPr>
        <p:spPr>
          <a:xfrm>
            <a:off x="6827760" y="5432400"/>
            <a:ext cx="193680" cy="25416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4" name="乗算記号 125"/>
          <p:cNvSpPr/>
          <p:nvPr/>
        </p:nvSpPr>
        <p:spPr>
          <a:xfrm>
            <a:off x="6116760" y="5756400"/>
            <a:ext cx="193680" cy="25380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5" name="乗算記号 126"/>
          <p:cNvSpPr/>
          <p:nvPr/>
        </p:nvSpPr>
        <p:spPr>
          <a:xfrm>
            <a:off x="6512040" y="6086520"/>
            <a:ext cx="193680" cy="25380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6" name="乗算記号 127"/>
          <p:cNvSpPr/>
          <p:nvPr/>
        </p:nvSpPr>
        <p:spPr>
          <a:xfrm>
            <a:off x="6832440" y="6467400"/>
            <a:ext cx="193680" cy="25416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7" name="四角形: 角を丸くする 128"/>
          <p:cNvSpPr/>
          <p:nvPr/>
        </p:nvSpPr>
        <p:spPr>
          <a:xfrm>
            <a:off x="9791640" y="5791320"/>
            <a:ext cx="162000" cy="16812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414">
                <a:moveTo>
                  <a:pt x="3600" y="0"/>
                </a:moveTo>
                <a:arcTo wR="3600" hR="3600" stAng="16200000" swAng="-5400000"/>
                <a:lnTo>
                  <a:pt x="0" y="18814"/>
                </a:lnTo>
                <a:arcTo wR="3600" hR="3600" stAng="10800000" swAng="-5400000"/>
                <a:lnTo>
                  <a:pt x="18000" y="22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8" name="四角形: 角を丸くする 129"/>
          <p:cNvSpPr/>
          <p:nvPr/>
        </p:nvSpPr>
        <p:spPr>
          <a:xfrm>
            <a:off x="9812160" y="6091200"/>
            <a:ext cx="162000" cy="16848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168480"/>
              <a:gd name="textAreaBottom" fmla="*/ 160560 h 168480"/>
            </a:gdLst>
            <a:ahLst/>
            <a:rect l="textAreaLeft" t="textAreaTop" r="textAreaRight" b="textAreaBottom"/>
            <a:pathLst>
              <a:path w="21600" h="22462">
                <a:moveTo>
                  <a:pt x="3600" y="0"/>
                </a:moveTo>
                <a:arcTo wR="3600" hR="3600" stAng="16200000" swAng="-5400000"/>
                <a:lnTo>
                  <a:pt x="0" y="18862"/>
                </a:lnTo>
                <a:arcTo wR="3600" hR="3600" stAng="10800000" swAng="-5400000"/>
                <a:lnTo>
                  <a:pt x="18000" y="224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9" name="四角形: 角を丸くする 130"/>
          <p:cNvSpPr/>
          <p:nvPr/>
        </p:nvSpPr>
        <p:spPr>
          <a:xfrm>
            <a:off x="10250640" y="6383160"/>
            <a:ext cx="161640" cy="168480"/>
          </a:xfrm>
          <a:custGeom>
            <a:avLst/>
            <a:gdLst>
              <a:gd name="textAreaLeft" fmla="*/ 7560 w 161640"/>
              <a:gd name="textAreaRight" fmla="*/ 154080 w 161640"/>
              <a:gd name="textAreaTop" fmla="*/ 7560 h 168480"/>
              <a:gd name="textAreaBottom" fmla="*/ 160920 h 168480"/>
            </a:gdLst>
            <a:ahLst/>
            <a:rect l="textAreaLeft" t="textAreaTop" r="textAreaRight" b="textAreaBottom"/>
            <a:pathLst>
              <a:path w="21600" h="22512">
                <a:moveTo>
                  <a:pt x="3600" y="0"/>
                </a:moveTo>
                <a:arcTo wR="3600" hR="3600" stAng="16200000" swAng="-5400000"/>
                <a:lnTo>
                  <a:pt x="0" y="18912"/>
                </a:lnTo>
                <a:arcTo wR="3600" hR="3600" stAng="10800000" swAng="-5400000"/>
                <a:lnTo>
                  <a:pt x="18000" y="22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0" name="楕円 131"/>
          <p:cNvSpPr/>
          <p:nvPr/>
        </p:nvSpPr>
        <p:spPr>
          <a:xfrm>
            <a:off x="8177040" y="5479920"/>
            <a:ext cx="163800" cy="158760"/>
          </a:xfrm>
          <a:prstGeom prst="ellipse">
            <a:avLst/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1" name="楕円 132"/>
          <p:cNvSpPr/>
          <p:nvPr/>
        </p:nvSpPr>
        <p:spPr>
          <a:xfrm>
            <a:off x="7516800" y="5721480"/>
            <a:ext cx="309600" cy="307800"/>
          </a:xfrm>
          <a:prstGeom prst="ellipse">
            <a:avLst/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2" name="楕円 133"/>
          <p:cNvSpPr/>
          <p:nvPr/>
        </p:nvSpPr>
        <p:spPr>
          <a:xfrm>
            <a:off x="7818480" y="6146640"/>
            <a:ext cx="163440" cy="160560"/>
          </a:xfrm>
          <a:prstGeom prst="ellipse">
            <a:avLst/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3" name="二等辺三角形 134"/>
          <p:cNvSpPr/>
          <p:nvPr/>
        </p:nvSpPr>
        <p:spPr>
          <a:xfrm>
            <a:off x="8710560" y="5807160"/>
            <a:ext cx="163440" cy="172800"/>
          </a:xfrm>
          <a:prstGeom prst="triangle">
            <a:avLst>
              <a:gd name="adj" fmla="val 50000"/>
            </a:avLst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4" name="二等辺三角形 135"/>
          <p:cNvSpPr/>
          <p:nvPr/>
        </p:nvSpPr>
        <p:spPr>
          <a:xfrm>
            <a:off x="8989920" y="5497560"/>
            <a:ext cx="162000" cy="173160"/>
          </a:xfrm>
          <a:prstGeom prst="triangle">
            <a:avLst>
              <a:gd name="adj" fmla="val 50000"/>
            </a:avLst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5" name="二等辺三角形 136"/>
          <p:cNvSpPr/>
          <p:nvPr/>
        </p:nvSpPr>
        <p:spPr>
          <a:xfrm>
            <a:off x="8736120" y="6516720"/>
            <a:ext cx="366480" cy="253800"/>
          </a:xfrm>
          <a:prstGeom prst="triangle">
            <a:avLst>
              <a:gd name="adj" fmla="val 50000"/>
            </a:avLst>
          </a:pr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6" name="星: 5 pt 138"/>
          <p:cNvSpPr/>
          <p:nvPr/>
        </p:nvSpPr>
        <p:spPr>
          <a:xfrm>
            <a:off x="5084640" y="6450120"/>
            <a:ext cx="311400" cy="287280"/>
          </a:xfrm>
          <a:custGeom>
            <a:avLst/>
            <a:gdLst/>
            <a:ahLst/>
            <a:rect l="l" t="t" r="r" b="b"/>
            <a:pathLst>
              <a:path w="311150" h="287337">
                <a:moveTo>
                  <a:pt x="0" y="109753"/>
                </a:moveTo>
                <a:lnTo>
                  <a:pt x="118849" y="109753"/>
                </a:lnTo>
                <a:lnTo>
                  <a:pt x="155575" y="0"/>
                </a:lnTo>
                <a:lnTo>
                  <a:pt x="192301" y="109753"/>
                </a:lnTo>
                <a:lnTo>
                  <a:pt x="311150" y="109753"/>
                </a:lnTo>
                <a:lnTo>
                  <a:pt x="214998" y="177583"/>
                </a:lnTo>
                <a:lnTo>
                  <a:pt x="251725" y="287336"/>
                </a:lnTo>
                <a:lnTo>
                  <a:pt x="155575" y="219504"/>
                </a:lnTo>
                <a:lnTo>
                  <a:pt x="59425" y="287336"/>
                </a:lnTo>
                <a:lnTo>
                  <a:pt x="96152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7" name="星: 5 pt 139"/>
          <p:cNvSpPr/>
          <p:nvPr/>
        </p:nvSpPr>
        <p:spPr>
          <a:xfrm>
            <a:off x="5446800" y="6132600"/>
            <a:ext cx="163440" cy="174600"/>
          </a:xfrm>
          <a:custGeom>
            <a:avLst/>
            <a:gdLst/>
            <a:ahLst/>
            <a:rect l="l" t="t" r="r" b="b"/>
            <a:pathLst>
              <a:path w="163512" h="174625">
                <a:moveTo>
                  <a:pt x="0" y="66701"/>
                </a:moveTo>
                <a:lnTo>
                  <a:pt x="62456" y="66701"/>
                </a:lnTo>
                <a:lnTo>
                  <a:pt x="81756" y="0"/>
                </a:lnTo>
                <a:lnTo>
                  <a:pt x="101056" y="66701"/>
                </a:lnTo>
                <a:lnTo>
                  <a:pt x="163512" y="66701"/>
                </a:lnTo>
                <a:lnTo>
                  <a:pt x="112983" y="107924"/>
                </a:lnTo>
                <a:lnTo>
                  <a:pt x="132284" y="174625"/>
                </a:lnTo>
                <a:lnTo>
                  <a:pt x="81756" y="133401"/>
                </a:lnTo>
                <a:lnTo>
                  <a:pt x="31228" y="174625"/>
                </a:lnTo>
                <a:lnTo>
                  <a:pt x="50529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e97132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8" name="乗算記号 140"/>
          <p:cNvSpPr/>
          <p:nvPr/>
        </p:nvSpPr>
        <p:spPr>
          <a:xfrm>
            <a:off x="6168960" y="6453360"/>
            <a:ext cx="193680" cy="25380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9" name="乗算記号 141"/>
          <p:cNvSpPr/>
          <p:nvPr/>
        </p:nvSpPr>
        <p:spPr>
          <a:xfrm>
            <a:off x="6494400" y="5460840"/>
            <a:ext cx="193680" cy="25416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0" name="乗算記号 142"/>
          <p:cNvSpPr/>
          <p:nvPr/>
        </p:nvSpPr>
        <p:spPr>
          <a:xfrm>
            <a:off x="6811920" y="5776920"/>
            <a:ext cx="193680" cy="254160"/>
          </a:xfrm>
          <a:custGeom>
            <a:avLst/>
            <a:gdLst/>
            <a:ahLst/>
            <a:rect l="l" t="t" r="r" b="b"/>
            <a:pathLst>
              <a:path w="193675" h="254000">
                <a:moveTo>
                  <a:pt x="28404" y="74815"/>
                </a:moveTo>
                <a:lnTo>
                  <a:pt x="64628" y="47194"/>
                </a:lnTo>
                <a:lnTo>
                  <a:pt x="96838" y="89437"/>
                </a:lnTo>
                <a:lnTo>
                  <a:pt x="129047" y="47194"/>
                </a:lnTo>
                <a:lnTo>
                  <a:pt x="165271" y="74815"/>
                </a:lnTo>
                <a:lnTo>
                  <a:pt x="125479" y="127000"/>
                </a:lnTo>
                <a:lnTo>
                  <a:pt x="165271" y="179185"/>
                </a:lnTo>
                <a:lnTo>
                  <a:pt x="129047" y="206806"/>
                </a:lnTo>
                <a:lnTo>
                  <a:pt x="96838" y="164563"/>
                </a:lnTo>
                <a:lnTo>
                  <a:pt x="64628" y="206806"/>
                </a:lnTo>
                <a:lnTo>
                  <a:pt x="28404" y="179185"/>
                </a:lnTo>
                <a:lnTo>
                  <a:pt x="68196" y="127000"/>
                </a:lnTo>
                <a:lnTo>
                  <a:pt x="28404" y="74815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1" name="乗算記号 143"/>
          <p:cNvSpPr/>
          <p:nvPr/>
        </p:nvSpPr>
        <p:spPr>
          <a:xfrm>
            <a:off x="6138720" y="6097680"/>
            <a:ext cx="192240" cy="252360"/>
          </a:xfrm>
          <a:custGeom>
            <a:avLst/>
            <a:gdLst/>
            <a:ahLst/>
            <a:rect l="l" t="t" r="r" b="b"/>
            <a:pathLst>
              <a:path w="192087" h="252412">
                <a:moveTo>
                  <a:pt x="28158" y="74303"/>
                </a:moveTo>
                <a:lnTo>
                  <a:pt x="64111" y="46943"/>
                </a:lnTo>
                <a:lnTo>
                  <a:pt x="96044" y="88905"/>
                </a:lnTo>
                <a:lnTo>
                  <a:pt x="127976" y="46943"/>
                </a:lnTo>
                <a:lnTo>
                  <a:pt x="163929" y="74303"/>
                </a:lnTo>
                <a:lnTo>
                  <a:pt x="124430" y="126206"/>
                </a:lnTo>
                <a:lnTo>
                  <a:pt x="163929" y="178109"/>
                </a:lnTo>
                <a:lnTo>
                  <a:pt x="127976" y="205469"/>
                </a:lnTo>
                <a:lnTo>
                  <a:pt x="96044" y="163507"/>
                </a:lnTo>
                <a:lnTo>
                  <a:pt x="64111" y="205469"/>
                </a:lnTo>
                <a:lnTo>
                  <a:pt x="28158" y="178109"/>
                </a:lnTo>
                <a:lnTo>
                  <a:pt x="67657" y="126206"/>
                </a:lnTo>
                <a:lnTo>
                  <a:pt x="28158" y="74303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2" name="四角形: 角を丸くする 144"/>
          <p:cNvSpPr/>
          <p:nvPr/>
        </p:nvSpPr>
        <p:spPr>
          <a:xfrm>
            <a:off x="10388520" y="5567400"/>
            <a:ext cx="163440" cy="16812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217">
                <a:moveTo>
                  <a:pt x="3600" y="0"/>
                </a:moveTo>
                <a:arcTo wR="3600" hR="3600" stAng="16200000" swAng="-5400000"/>
                <a:lnTo>
                  <a:pt x="0" y="18617"/>
                </a:lnTo>
                <a:arcTo wR="3600" hR="3600" stAng="10800000" swAng="-5400000"/>
                <a:lnTo>
                  <a:pt x="18000" y="22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3" name="四角形: 角を丸くする 145"/>
          <p:cNvSpPr/>
          <p:nvPr/>
        </p:nvSpPr>
        <p:spPr>
          <a:xfrm>
            <a:off x="9871200" y="6402240"/>
            <a:ext cx="163440" cy="16668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166680"/>
              <a:gd name="textAreaBottom" fmla="*/ 158760 h 166680"/>
            </a:gdLst>
            <a:ahLst/>
            <a:rect l="textAreaLeft" t="textAreaTop" r="textAreaRight" b="textAreaBottom"/>
            <a:pathLst>
              <a:path w="21600" h="22027">
                <a:moveTo>
                  <a:pt x="3600" y="0"/>
                </a:moveTo>
                <a:arcTo wR="3600" hR="3600" stAng="16200000" swAng="-5400000"/>
                <a:lnTo>
                  <a:pt x="0" y="18427"/>
                </a:lnTo>
                <a:arcTo wR="3600" hR="3600" stAng="10800000" swAng="-5400000"/>
                <a:lnTo>
                  <a:pt x="18000" y="22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4" name="四角形: 角を丸くする 146"/>
          <p:cNvSpPr/>
          <p:nvPr/>
        </p:nvSpPr>
        <p:spPr>
          <a:xfrm>
            <a:off x="10107720" y="5803920"/>
            <a:ext cx="163440" cy="16812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168120"/>
              <a:gd name="textAreaBottom" fmla="*/ 160200 h 168120"/>
            </a:gdLst>
            <a:ahLst/>
            <a:rect l="textAreaLeft" t="textAreaTop" r="textAreaRight" b="textAreaBottom"/>
            <a:pathLst>
              <a:path w="21600" h="22217">
                <a:moveTo>
                  <a:pt x="3600" y="0"/>
                </a:moveTo>
                <a:arcTo wR="3600" hR="3600" stAng="16200000" swAng="-5400000"/>
                <a:lnTo>
                  <a:pt x="0" y="18617"/>
                </a:lnTo>
                <a:arcTo wR="3600" hR="3600" stAng="10800000" swAng="-5400000"/>
                <a:lnTo>
                  <a:pt x="18000" y="22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5" name="楕円 147"/>
          <p:cNvSpPr/>
          <p:nvPr/>
        </p:nvSpPr>
        <p:spPr>
          <a:xfrm>
            <a:off x="7873920" y="6605640"/>
            <a:ext cx="163440" cy="1602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6" name="楕円 148"/>
          <p:cNvSpPr/>
          <p:nvPr/>
        </p:nvSpPr>
        <p:spPr>
          <a:xfrm>
            <a:off x="7891560" y="5479920"/>
            <a:ext cx="163440" cy="15876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7" name="楕円 149"/>
          <p:cNvSpPr/>
          <p:nvPr/>
        </p:nvSpPr>
        <p:spPr>
          <a:xfrm>
            <a:off x="7526160" y="6205680"/>
            <a:ext cx="163800" cy="1602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8" name="二等辺三角形 150"/>
          <p:cNvSpPr/>
          <p:nvPr/>
        </p:nvSpPr>
        <p:spPr>
          <a:xfrm>
            <a:off x="9285120" y="5807160"/>
            <a:ext cx="163800" cy="17280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9" name="二等辺三角形 151"/>
          <p:cNvSpPr/>
          <p:nvPr/>
        </p:nvSpPr>
        <p:spPr>
          <a:xfrm>
            <a:off x="8775720" y="6194520"/>
            <a:ext cx="162000" cy="17280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0" name="二等辺三角形 152"/>
          <p:cNvSpPr/>
          <p:nvPr/>
        </p:nvSpPr>
        <p:spPr>
          <a:xfrm>
            <a:off x="8988480" y="5772240"/>
            <a:ext cx="162000" cy="17460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1" name="星: 5 pt 153"/>
          <p:cNvSpPr/>
          <p:nvPr/>
        </p:nvSpPr>
        <p:spPr>
          <a:xfrm>
            <a:off x="5162400" y="5427720"/>
            <a:ext cx="162000" cy="174600"/>
          </a:xfrm>
          <a:custGeom>
            <a:avLst/>
            <a:gdLst/>
            <a:ahLst/>
            <a:rect l="l" t="t" r="r" b="b"/>
            <a:pathLst>
              <a:path w="161925" h="174625">
                <a:moveTo>
                  <a:pt x="0" y="66701"/>
                </a:moveTo>
                <a:lnTo>
                  <a:pt x="61850" y="66701"/>
                </a:lnTo>
                <a:lnTo>
                  <a:pt x="80963" y="0"/>
                </a:lnTo>
                <a:lnTo>
                  <a:pt x="100075" y="66701"/>
                </a:lnTo>
                <a:lnTo>
                  <a:pt x="161925" y="66701"/>
                </a:lnTo>
                <a:lnTo>
                  <a:pt x="111887" y="107924"/>
                </a:lnTo>
                <a:lnTo>
                  <a:pt x="131000" y="174625"/>
                </a:lnTo>
                <a:lnTo>
                  <a:pt x="80963" y="133401"/>
                </a:lnTo>
                <a:lnTo>
                  <a:pt x="30925" y="174625"/>
                </a:lnTo>
                <a:lnTo>
                  <a:pt x="50038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2" name="星: 5 pt 154"/>
          <p:cNvSpPr/>
          <p:nvPr/>
        </p:nvSpPr>
        <p:spPr>
          <a:xfrm>
            <a:off x="5489640" y="6512040"/>
            <a:ext cx="162000" cy="172800"/>
          </a:xfrm>
          <a:custGeom>
            <a:avLst/>
            <a:gdLst/>
            <a:ahLst/>
            <a:rect l="l" t="t" r="r" b="b"/>
            <a:pathLst>
              <a:path w="161925" h="173038">
                <a:moveTo>
                  <a:pt x="0" y="66094"/>
                </a:moveTo>
                <a:lnTo>
                  <a:pt x="61850" y="66095"/>
                </a:lnTo>
                <a:lnTo>
                  <a:pt x="80963" y="0"/>
                </a:lnTo>
                <a:lnTo>
                  <a:pt x="100075" y="66095"/>
                </a:lnTo>
                <a:lnTo>
                  <a:pt x="161925" y="66094"/>
                </a:lnTo>
                <a:lnTo>
                  <a:pt x="111887" y="106943"/>
                </a:lnTo>
                <a:lnTo>
                  <a:pt x="131000" y="173038"/>
                </a:lnTo>
                <a:lnTo>
                  <a:pt x="80963" y="132188"/>
                </a:lnTo>
                <a:lnTo>
                  <a:pt x="30925" y="173038"/>
                </a:lnTo>
                <a:lnTo>
                  <a:pt x="50038" y="106943"/>
                </a:lnTo>
                <a:lnTo>
                  <a:pt x="0" y="66094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3" name="星: 5 pt 155"/>
          <p:cNvSpPr/>
          <p:nvPr/>
        </p:nvSpPr>
        <p:spPr>
          <a:xfrm>
            <a:off x="5468760" y="5759280"/>
            <a:ext cx="163800" cy="174960"/>
          </a:xfrm>
          <a:custGeom>
            <a:avLst/>
            <a:gdLst/>
            <a:ahLst/>
            <a:rect l="l" t="t" r="r" b="b"/>
            <a:pathLst>
              <a:path w="163512" h="174625">
                <a:moveTo>
                  <a:pt x="0" y="66701"/>
                </a:moveTo>
                <a:lnTo>
                  <a:pt x="62456" y="66701"/>
                </a:lnTo>
                <a:lnTo>
                  <a:pt x="81756" y="0"/>
                </a:lnTo>
                <a:lnTo>
                  <a:pt x="101056" y="66701"/>
                </a:lnTo>
                <a:lnTo>
                  <a:pt x="163512" y="66701"/>
                </a:lnTo>
                <a:lnTo>
                  <a:pt x="112983" y="107924"/>
                </a:lnTo>
                <a:lnTo>
                  <a:pt x="132284" y="174625"/>
                </a:lnTo>
                <a:lnTo>
                  <a:pt x="81756" y="133401"/>
                </a:lnTo>
                <a:lnTo>
                  <a:pt x="31228" y="174625"/>
                </a:lnTo>
                <a:lnTo>
                  <a:pt x="50529" y="107924"/>
                </a:lnTo>
                <a:lnTo>
                  <a:pt x="0" y="66701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622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4" name="テキスト ボックス 1"/>
          <p:cNvSpPr/>
          <p:nvPr/>
        </p:nvSpPr>
        <p:spPr>
          <a:xfrm>
            <a:off x="10585440" y="1170000"/>
            <a:ext cx="16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読本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39</a:t>
            </a:r>
            <a:endParaRPr b="0" lang="en-US" sz="16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（２）層別の活用方法</a:t>
            </a:r>
            <a:endParaRPr b="0" lang="en-US" sz="2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668240" y="836280"/>
            <a:ext cx="8854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層別は、データから有効な情報を得るために行う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層別は、データを分析する時の切り口を決める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ナイフのようなもの。どのようにナイフを入れるか　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で、データは生きも死にもする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7" name="コンテンツ プレースホルダー 2"/>
          <p:cNvSpPr/>
          <p:nvPr/>
        </p:nvSpPr>
        <p:spPr>
          <a:xfrm>
            <a:off x="1668600" y="2711520"/>
            <a:ext cx="885636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３）層別手順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）対象を明確にし、特性・範囲を明確にする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）全体像を把握する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）要素（層別項目）を考える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４）チェックシートにて実態を把握する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５）いくつの小グループに分ける（層別）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６）姿をつかむ（グラフ・パレート図・散布図利用）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７）特徴を言葉で表現する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８）比較検討し、全体像を把握する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図 6" descr=""/>
          <p:cNvPicPr/>
          <p:nvPr/>
        </p:nvPicPr>
        <p:blipFill>
          <a:blip r:embed="rId1"/>
          <a:stretch/>
        </p:blipFill>
        <p:spPr>
          <a:xfrm>
            <a:off x="1343160" y="692280"/>
            <a:ext cx="9721800" cy="5806800"/>
          </a:xfrm>
          <a:prstGeom prst="rect">
            <a:avLst/>
          </a:prstGeom>
          <a:ln w="0">
            <a:noFill/>
          </a:ln>
        </p:spPr>
      </p:pic>
      <p:sp>
        <p:nvSpPr>
          <p:cNvPr id="199" name="テキスト ボックス 7"/>
          <p:cNvSpPr/>
          <p:nvPr/>
        </p:nvSpPr>
        <p:spPr>
          <a:xfrm>
            <a:off x="2063880" y="4046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職場における層別項目の例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0" name="テキスト ボックス 8"/>
          <p:cNvSpPr/>
          <p:nvPr/>
        </p:nvSpPr>
        <p:spPr>
          <a:xfrm>
            <a:off x="8688240" y="6524640"/>
            <a:ext cx="338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eiryo UI"/>
                <a:ea typeface="Meiryo UI"/>
              </a:rPr>
              <a:t>QC</a:t>
            </a:r>
            <a:r>
              <a:rPr b="0" lang="ja-JP" sz="1100" spc="-1" strike="noStrike">
                <a:solidFill>
                  <a:srgbClr val="000000"/>
                </a:solidFill>
                <a:latin typeface="Meiryo UI"/>
                <a:ea typeface="Meiryo UI"/>
              </a:rPr>
              <a:t>サークル運営実務ノート（日科技連発行書籍）より</a:t>
            </a:r>
            <a:endParaRPr b="0" lang="en-US" sz="11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図 4" descr=""/>
          <p:cNvPicPr/>
          <p:nvPr/>
        </p:nvPicPr>
        <p:blipFill>
          <a:blip r:embed="rId1"/>
          <a:stretch/>
        </p:blipFill>
        <p:spPr>
          <a:xfrm>
            <a:off x="1703520" y="341280"/>
            <a:ext cx="9145440" cy="6175440"/>
          </a:xfrm>
          <a:prstGeom prst="rect">
            <a:avLst/>
          </a:prstGeom>
          <a:ln w="0">
            <a:noFill/>
          </a:ln>
        </p:spPr>
      </p:pic>
      <p:sp>
        <p:nvSpPr>
          <p:cNvPr id="202" name="テキスト ボックス 5"/>
          <p:cNvSpPr/>
          <p:nvPr/>
        </p:nvSpPr>
        <p:spPr>
          <a:xfrm>
            <a:off x="623880" y="1573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層別の具体例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3" name="テキスト ボックス 6"/>
          <p:cNvSpPr/>
          <p:nvPr/>
        </p:nvSpPr>
        <p:spPr>
          <a:xfrm>
            <a:off x="8688240" y="6570720"/>
            <a:ext cx="338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eiryo UI"/>
                <a:ea typeface="Meiryo UI"/>
              </a:rPr>
              <a:t>QC</a:t>
            </a:r>
            <a:r>
              <a:rPr b="0" lang="ja-JP" sz="1100" spc="-1" strike="noStrike">
                <a:solidFill>
                  <a:srgbClr val="000000"/>
                </a:solidFill>
                <a:latin typeface="Meiryo UI"/>
                <a:ea typeface="Meiryo UI"/>
              </a:rPr>
              <a:t>サークル運営実務ノート（日科技連発行書籍）より</a:t>
            </a:r>
            <a:endParaRPr b="0" lang="en-US" sz="11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9840" y="101520"/>
            <a:ext cx="332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【</a:t>
            </a:r>
            <a:r>
              <a:rPr b="1" lang="ja-JP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親和図法　</a:t>
            </a:r>
            <a:r>
              <a:rPr b="1" lang="en-US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752480" y="4156200"/>
            <a:ext cx="513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（２）どんな時に使うもの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2001960" y="914400"/>
            <a:ext cx="804384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未来・将来の問題など、もやもやとはっきりしない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問題点について、事実、推定、予測、意見、発想の構造を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言語データでとらえ、相互の関係を親和性によって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統合した図をつくることで、解決すべき問題の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所在・形態を“明確”にする手法です。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※</a:t>
            </a: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ＫＪ法（考案者：川喜多二郎氏）に由来する。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1752480" y="4869000"/>
            <a:ext cx="84582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んなの意思を統一したい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（例）ＱＣサークルを活発にするにはどうすればよいか？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問題を見極めたい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（例）職場の問題点は何か？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703520" y="725400"/>
            <a:ext cx="337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１）親和図法とは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9" name="テキスト ボックス 1"/>
          <p:cNvSpPr/>
          <p:nvPr/>
        </p:nvSpPr>
        <p:spPr>
          <a:xfrm>
            <a:off x="10453680" y="101520"/>
            <a:ext cx="16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読本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39</a:t>
            </a:r>
            <a:endParaRPr b="0" lang="en-US" sz="16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2576160" y="171360"/>
            <a:ext cx="2745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（３）作成の手順と注意点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801800" y="836640"/>
            <a:ext cx="880740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ーマを決める。</a:t>
            </a: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・問題の本質を明らかにしたいもの　</a:t>
            </a: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・考えをまとめたいもの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・発想を得たいもの など</a:t>
            </a: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r>
              <a:rPr b="1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｢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見た</a:t>
            </a:r>
            <a:r>
              <a:rPr b="1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｣｢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聞いた</a:t>
            </a:r>
            <a:r>
              <a:rPr b="1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｣｢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感じた</a:t>
            </a:r>
            <a:r>
              <a:rPr b="1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｣｢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考えた</a:t>
            </a:r>
            <a:r>
              <a:rPr b="1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｣｢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調べた</a:t>
            </a:r>
            <a:r>
              <a:rPr b="1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｣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とをカードに書く</a:t>
            </a: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・ズバリとした表現で</a:t>
            </a: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・簡潔で短い文にまとめる</a:t>
            </a: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・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主語＋述語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親和性（似ている、近い、ほとんど同じ）のあるカードを寄せて集める</a:t>
            </a: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どのグループにも入らないカードは、そのまま（ひとりぼっち）にする</a:t>
            </a: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寄り集まったカードをまとめて表札「親和カード」を作る</a:t>
            </a: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⑥</a:t>
            </a: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レイアウトをよく考えて親和図を完成させる</a:t>
            </a:r>
            <a:endParaRPr b="0" lang="en-US" sz="20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9"/>
          <p:cNvSpPr/>
          <p:nvPr/>
        </p:nvSpPr>
        <p:spPr>
          <a:xfrm rot="754200">
            <a:off x="3146040" y="4913280"/>
            <a:ext cx="1181160" cy="42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持ちやすい</a:t>
            </a:r>
            <a:endParaRPr b="0" lang="en-US" sz="16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154320" y="1666800"/>
            <a:ext cx="1523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軽くて持ち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4" name="Rectangle 21"/>
          <p:cNvSpPr/>
          <p:nvPr/>
        </p:nvSpPr>
        <p:spPr>
          <a:xfrm rot="1402800">
            <a:off x="1979280" y="2596680"/>
            <a:ext cx="1523880" cy="49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手にぴったりと合う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5" name="Rectangle 22"/>
          <p:cNvSpPr/>
          <p:nvPr/>
        </p:nvSpPr>
        <p:spPr>
          <a:xfrm rot="19690200">
            <a:off x="3657600" y="3392640"/>
            <a:ext cx="1187280" cy="69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持ったとき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安定感があ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6" name="Rectangle 24"/>
          <p:cNvSpPr/>
          <p:nvPr/>
        </p:nvSpPr>
        <p:spPr>
          <a:xfrm rot="20802000">
            <a:off x="939960" y="4243320"/>
            <a:ext cx="118080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握り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7" name="Rectangle 26"/>
          <p:cNvSpPr/>
          <p:nvPr/>
        </p:nvSpPr>
        <p:spPr>
          <a:xfrm rot="1342200">
            <a:off x="3139920" y="865080"/>
            <a:ext cx="152568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持ち運びし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8" name="Rectangle 27"/>
          <p:cNvSpPr/>
          <p:nvPr/>
        </p:nvSpPr>
        <p:spPr>
          <a:xfrm rot="20547000">
            <a:off x="7610040" y="1539360"/>
            <a:ext cx="1238400" cy="65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小さくて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持ち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5413320" y="2178000"/>
            <a:ext cx="167328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楽に操作できる</a:t>
            </a:r>
            <a:endParaRPr b="0" lang="en-US" sz="16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0" name="Rectangle 30"/>
          <p:cNvSpPr/>
          <p:nvPr/>
        </p:nvSpPr>
        <p:spPr>
          <a:xfrm rot="18399600">
            <a:off x="9805320" y="1781640"/>
            <a:ext cx="114444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思い通りに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調整でき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1" name="Rectangle 31"/>
          <p:cNvSpPr/>
          <p:nvPr/>
        </p:nvSpPr>
        <p:spPr>
          <a:xfrm rot="795000">
            <a:off x="1542600" y="5706720"/>
            <a:ext cx="1147680" cy="65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調整状態を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確認でき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2" name="Rectangle 32"/>
          <p:cNvSpPr/>
          <p:nvPr/>
        </p:nvSpPr>
        <p:spPr>
          <a:xfrm rot="783000">
            <a:off x="5706720" y="1044720"/>
            <a:ext cx="1333440" cy="5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手の動きに合う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3" name="Rectangle 34"/>
          <p:cNvSpPr/>
          <p:nvPr/>
        </p:nvSpPr>
        <p:spPr>
          <a:xfrm rot="20491200">
            <a:off x="736560" y="1209600"/>
            <a:ext cx="1143000" cy="69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動作中に調整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でき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4" name="Rectangle 32"/>
          <p:cNvSpPr/>
          <p:nvPr/>
        </p:nvSpPr>
        <p:spPr>
          <a:xfrm rot="19852200">
            <a:off x="5114520" y="4416480"/>
            <a:ext cx="127008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軽く引くだけで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調整でき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8777160" y="522360"/>
            <a:ext cx="167328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操作がわかりやすい</a:t>
            </a:r>
            <a:endParaRPr b="0" lang="en-US" sz="16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6" name="Rectangle 34"/>
          <p:cNvSpPr/>
          <p:nvPr/>
        </p:nvSpPr>
        <p:spPr>
          <a:xfrm rot="935400">
            <a:off x="6339960" y="3265200"/>
            <a:ext cx="1530360" cy="69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使用方法が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わかり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7" name="Rectangle 34"/>
          <p:cNvSpPr/>
          <p:nvPr/>
        </p:nvSpPr>
        <p:spPr>
          <a:xfrm rot="704400">
            <a:off x="8559360" y="3331800"/>
            <a:ext cx="1524240" cy="69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初心者でも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操作がし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4871880" y="5799240"/>
            <a:ext cx="1524240" cy="69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オンラインヘルプ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になってい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9" name="テキスト ボックス 25"/>
          <p:cNvSpPr/>
          <p:nvPr/>
        </p:nvSpPr>
        <p:spPr>
          <a:xfrm>
            <a:off x="368280" y="168120"/>
            <a:ext cx="6340320" cy="368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テーマ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『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操作しやすいビデオカメラのお客様ニーズ調査結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』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pic>
        <p:nvPicPr>
          <p:cNvPr id="230" name="図 1" descr=""/>
          <p:cNvPicPr/>
          <p:nvPr/>
        </p:nvPicPr>
        <p:blipFill>
          <a:blip r:embed="rId1"/>
          <a:stretch/>
        </p:blipFill>
        <p:spPr>
          <a:xfrm>
            <a:off x="8109000" y="4621320"/>
            <a:ext cx="330336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9"/>
          <p:cNvSpPr/>
          <p:nvPr/>
        </p:nvSpPr>
        <p:spPr>
          <a:xfrm rot="754200">
            <a:off x="3238200" y="4414680"/>
            <a:ext cx="1181160" cy="4208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持ちやすい</a:t>
            </a:r>
            <a:endParaRPr b="0" lang="en-US" sz="16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2" name="Rectangle 20"/>
          <p:cNvSpPr/>
          <p:nvPr/>
        </p:nvSpPr>
        <p:spPr>
          <a:xfrm>
            <a:off x="3154320" y="1666800"/>
            <a:ext cx="1523880" cy="5270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軽くて持ち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3" name="Rectangle 21"/>
          <p:cNvSpPr/>
          <p:nvPr/>
        </p:nvSpPr>
        <p:spPr>
          <a:xfrm rot="1402800">
            <a:off x="1979280" y="2596680"/>
            <a:ext cx="1523880" cy="49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手にぴったりと合う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4" name="Rectangle 22"/>
          <p:cNvSpPr/>
          <p:nvPr/>
        </p:nvSpPr>
        <p:spPr>
          <a:xfrm rot="19690200">
            <a:off x="4051440" y="2995560"/>
            <a:ext cx="1187280" cy="6955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持ったとき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安定感があ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5" name="Rectangle 24"/>
          <p:cNvSpPr/>
          <p:nvPr/>
        </p:nvSpPr>
        <p:spPr>
          <a:xfrm rot="20802000">
            <a:off x="2151000" y="3525480"/>
            <a:ext cx="1181160" cy="5270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握り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6" name="Rectangle 26"/>
          <p:cNvSpPr/>
          <p:nvPr/>
        </p:nvSpPr>
        <p:spPr>
          <a:xfrm rot="1342200">
            <a:off x="3139920" y="865080"/>
            <a:ext cx="1525680" cy="4320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持ち運びし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7" name="Rectangle 27"/>
          <p:cNvSpPr/>
          <p:nvPr/>
        </p:nvSpPr>
        <p:spPr>
          <a:xfrm rot="20547000">
            <a:off x="6894000" y="1723680"/>
            <a:ext cx="1238400" cy="658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小さくて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持ち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5703840" y="2624040"/>
            <a:ext cx="1673280" cy="46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楽に操作できる</a:t>
            </a:r>
            <a:endParaRPr b="0" lang="en-US" sz="16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9" name="Rectangle 30"/>
          <p:cNvSpPr/>
          <p:nvPr/>
        </p:nvSpPr>
        <p:spPr>
          <a:xfrm rot="18399600">
            <a:off x="8544960" y="1999080"/>
            <a:ext cx="1144440" cy="685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思い通りに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調整でき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0" name="Rectangle 31"/>
          <p:cNvSpPr/>
          <p:nvPr/>
        </p:nvSpPr>
        <p:spPr>
          <a:xfrm rot="795000">
            <a:off x="2579400" y="5196960"/>
            <a:ext cx="1147680" cy="658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調整状態を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確認でき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1" name="Rectangle 32"/>
          <p:cNvSpPr/>
          <p:nvPr/>
        </p:nvSpPr>
        <p:spPr>
          <a:xfrm rot="783000">
            <a:off x="5057280" y="1309680"/>
            <a:ext cx="1333800" cy="5619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手の動きに合う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2" name="Rectangle 34"/>
          <p:cNvSpPr/>
          <p:nvPr/>
        </p:nvSpPr>
        <p:spPr>
          <a:xfrm rot="20491200">
            <a:off x="1728720" y="1332000"/>
            <a:ext cx="1143000" cy="693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動作中に調整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でき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3" name="Rectangle 32"/>
          <p:cNvSpPr/>
          <p:nvPr/>
        </p:nvSpPr>
        <p:spPr>
          <a:xfrm rot="19852200">
            <a:off x="4998600" y="4287960"/>
            <a:ext cx="1270080" cy="1054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軽く引くだけで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調整でき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7296120" y="987480"/>
            <a:ext cx="1673280" cy="465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操作がわかりやすい</a:t>
            </a:r>
            <a:endParaRPr b="0" lang="en-US" sz="16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5" name="Rectangle 34"/>
          <p:cNvSpPr/>
          <p:nvPr/>
        </p:nvSpPr>
        <p:spPr>
          <a:xfrm rot="935400">
            <a:off x="6097320" y="3462120"/>
            <a:ext cx="1530360" cy="693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使用方法が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わかり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6" name="Rectangle 34"/>
          <p:cNvSpPr/>
          <p:nvPr/>
        </p:nvSpPr>
        <p:spPr>
          <a:xfrm rot="704400">
            <a:off x="8559360" y="3331800"/>
            <a:ext cx="1524240" cy="693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初心者でも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操作がしやすい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4871880" y="5799240"/>
            <a:ext cx="1524240" cy="693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オンラインヘルプ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になっている</a:t>
            </a:r>
            <a:endParaRPr b="0" lang="en-US" sz="14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8" name="テキスト ボックス 25"/>
          <p:cNvSpPr/>
          <p:nvPr/>
        </p:nvSpPr>
        <p:spPr>
          <a:xfrm>
            <a:off x="2075040" y="125280"/>
            <a:ext cx="6340320" cy="368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テーマ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『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操作しやすいビデオカメラお客様ニー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』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pic>
        <p:nvPicPr>
          <p:cNvPr id="249" name="図 1" descr=""/>
          <p:cNvPicPr/>
          <p:nvPr/>
        </p:nvPicPr>
        <p:blipFill>
          <a:blip r:embed="rId1"/>
          <a:stretch/>
        </p:blipFill>
        <p:spPr>
          <a:xfrm>
            <a:off x="8499600" y="4478400"/>
            <a:ext cx="3303360" cy="2211480"/>
          </a:xfrm>
          <a:prstGeom prst="rect">
            <a:avLst/>
          </a:prstGeom>
          <a:ln w="0">
            <a:noFill/>
          </a:ln>
        </p:spPr>
      </p:pic>
      <p:cxnSp>
        <p:nvCxnSpPr>
          <p:cNvPr id="250" name="直線矢印コネクタ 2"/>
          <p:cNvCxnSpPr>
            <a:stCxn id="232" idx="3"/>
            <a:endCxn id="237" idx="1"/>
          </p:cNvCxnSpPr>
          <p:nvPr/>
        </p:nvCxnSpPr>
        <p:spPr>
          <a:xfrm>
            <a:off x="4678200" y="1930320"/>
            <a:ext cx="2245680" cy="3103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直線矢印コネクタ 3"/>
          <p:cNvCxnSpPr>
            <a:endCxn id="232" idx="2"/>
          </p:cNvCxnSpPr>
          <p:nvPr/>
        </p:nvCxnSpPr>
        <p:spPr>
          <a:xfrm flipV="1">
            <a:off x="2835000" y="2193480"/>
            <a:ext cx="1081800" cy="4104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直線矢印コネクタ 5"/>
          <p:cNvCxnSpPr/>
          <p:nvPr/>
        </p:nvCxnSpPr>
        <p:spPr>
          <a:xfrm flipH="1">
            <a:off x="3718800" y="2206440"/>
            <a:ext cx="214920" cy="21438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3" name="直線矢印コネクタ 7"/>
          <p:cNvCxnSpPr>
            <a:endCxn id="234" idx="0"/>
          </p:cNvCxnSpPr>
          <p:nvPr/>
        </p:nvCxnSpPr>
        <p:spPr>
          <a:xfrm>
            <a:off x="3979440" y="2236680"/>
            <a:ext cx="483480" cy="8121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4" name="直線矢印コネクタ 9"/>
          <p:cNvCxnSpPr>
            <a:endCxn id="235" idx="0"/>
          </p:cNvCxnSpPr>
          <p:nvPr/>
        </p:nvCxnSpPr>
        <p:spPr>
          <a:xfrm>
            <a:off x="2597040" y="3068640"/>
            <a:ext cx="84960" cy="4644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5" name="直線矢印コネクタ 11"/>
          <p:cNvCxnSpPr>
            <a:stCxn id="236" idx="2"/>
          </p:cNvCxnSpPr>
          <p:nvPr/>
        </p:nvCxnSpPr>
        <p:spPr>
          <a:xfrm>
            <a:off x="3821040" y="1281240"/>
            <a:ext cx="70200" cy="4132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2:07:25Z</dcterms:created>
  <dc:creator>k.tsuchimoto</dc:creator>
  <dc:description/>
  <dc:language>en-US</dc:language>
  <cp:lastModifiedBy>石田 奈加夫(ishida,nakao)</cp:lastModifiedBy>
  <dcterms:modified xsi:type="dcterms:W3CDTF">2025-08-06T03:31:54Z</dcterms:modified>
  <cp:revision>44</cp:revision>
  <dc:subject/>
  <dc:title>４．１　親和図法</dc:title>
</cp:coreProperties>
</file>